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12CF0-7235-4B72-8A28-F17DE7447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6BC95-A2B4-4745-ADC3-2C9213BF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92895-707E-402F-9131-15AB7EFF7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4C1A7-7A72-45CF-A2EE-8621FE8F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466D7-6957-4BB6-83BB-60F2B82F6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8D6E2-439E-470C-B4B8-38DDEC346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3EDCE-1FFC-441F-A2AB-8C0E9F6F6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6BE4B-7984-487A-88F4-8BC2639C3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BFD83-3E6F-4884-A846-60758DA9A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3501B-0DE6-4790-9A63-0EF695E22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AA7C2-6E8D-4D9E-8B6E-EA4125D0B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6DF90-F828-4094-AED4-D4F408DE0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D498B-BA7F-42B0-9A06-04DA09664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541B9-98DB-4A56-9FF0-064E9CD61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9B0F-1661-4B97-BB17-E7CFC73D8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09039-FFAC-4581-A4C2-B06E9745A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A46FF-D17A-404C-9F1E-C782B7DCA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9FE75E-F892-43A9-891B-CC8571CE5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F94FA-1A68-4741-A1AC-1EE10DD72B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80ABF-6BDD-43A8-8D2E-48583BCA1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8A24B-5F5A-455C-8C40-A85A586F0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B8CB5-BA76-4814-B9AF-7171FFC32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4692-641B-46D2-B629-C40BE290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E2BF6-1EDF-42C6-B450-39EF14044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1768E-3CF4-4F13-9DCE-E5A4BBE51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642FC-B1B2-4E1F-B69F-499A8915F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8CCA5-4935-4F7B-9CA8-A8D8F2F17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D3A2F4-8DC5-446C-819D-0E37005DA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476812-EB7C-451A-B6F8-E6EECD2C40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5B9C5-C6D7-492B-A3BB-C707A8111E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9FEEE3-7C85-48A1-9416-7523F4716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3B8F8-C209-4450-97FE-5C129C66E0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C16DE-A961-4F32-81A1-077AB689E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A47FA-805D-47DD-A4AE-D913CCB5B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F7584-9EAC-40C3-8DB5-59BE6275D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D0C65-4F71-451B-B1B7-A87BE5719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58AA5-EF64-4BC1-AE12-EF420ED18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D0823-4E90-4BB1-9376-9E0A5E6B4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61239-1090-41F5-8ABA-8BD332E7B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EF74F-FEB3-4C5E-8093-B98043DEA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388AB-883F-4750-9E35-16FA4D084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627DB-779C-49E3-9E28-10606C9B2E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5C1E20-8891-474C-BE51-A146E94E52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B6AA8-F0D1-4B50-9DA3-45AA45B09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B58C-8B76-4C33-B8B2-C7B9DBD6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E7E91-A65A-42FF-85AE-53C035B3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A9AE3-C012-4DDA-A669-8A0076448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91E5-5C04-4FD1-B25D-EA0C99EB9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9BD7-8307-4DF5-9E49-E9DAF50D326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9120-8C1D-48DB-B1F6-29102A821C9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8" name=""/>
          <p:cNvGrpSpPr/>
          <p:nvPr/>
        </p:nvGrpSpPr>
        <p:grpSpPr>
          <a:xfrm>
            <a:off x="6273360" y="-21240"/>
            <a:ext cx="2966400" cy="3296160"/>
            <a:chOff x="6273360" y="-21240"/>
            <a:chExt cx="2966400" cy="3296160"/>
          </a:xfrm>
        </p:grpSpPr>
        <p:grpSp>
          <p:nvGrpSpPr>
            <p:cNvPr id="89" name=""/>
            <p:cNvGrpSpPr/>
            <p:nvPr/>
          </p:nvGrpSpPr>
          <p:grpSpPr>
            <a:xfrm>
              <a:off x="7566840" y="2500200"/>
              <a:ext cx="1004760" cy="753840"/>
              <a:chOff x="7566840" y="2500200"/>
              <a:chExt cx="1004760" cy="753840"/>
            </a:xfrm>
          </p:grpSpPr>
          <p:sp>
            <p:nvSpPr>
              <p:cNvPr id="90"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2" name=""/>
            <p:cNvGrpSpPr/>
            <p:nvPr/>
          </p:nvGrpSpPr>
          <p:grpSpPr>
            <a:xfrm>
              <a:off x="7798320" y="1443600"/>
              <a:ext cx="1005120" cy="753840"/>
              <a:chOff x="7798320" y="1443600"/>
              <a:chExt cx="1005120" cy="753840"/>
            </a:xfrm>
          </p:grpSpPr>
          <p:sp>
            <p:nvSpPr>
              <p:cNvPr id="93"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5" name=""/>
            <p:cNvGrpSpPr/>
            <p:nvPr/>
          </p:nvGrpSpPr>
          <p:grpSpPr>
            <a:xfrm>
              <a:off x="6328800" y="0"/>
              <a:ext cx="1005120" cy="753840"/>
              <a:chOff x="6328800" y="0"/>
              <a:chExt cx="1005120" cy="753840"/>
            </a:xfrm>
          </p:grpSpPr>
          <p:sp>
            <p:nvSpPr>
              <p:cNvPr id="96"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8" name=""/>
            <p:cNvGrpSpPr/>
            <p:nvPr/>
          </p:nvGrpSpPr>
          <p:grpSpPr>
            <a:xfrm>
              <a:off x="6273360" y="-21240"/>
              <a:ext cx="2966400" cy="3296160"/>
              <a:chOff x="6273360" y="-21240"/>
              <a:chExt cx="2966400" cy="3296160"/>
            </a:xfrm>
          </p:grpSpPr>
          <p:grpSp>
            <p:nvGrpSpPr>
              <p:cNvPr id="99" name=""/>
              <p:cNvGrpSpPr/>
              <p:nvPr/>
            </p:nvGrpSpPr>
            <p:grpSpPr>
              <a:xfrm>
                <a:off x="6990840" y="402840"/>
                <a:ext cx="1498680" cy="1104480"/>
                <a:chOff x="6990840" y="402840"/>
                <a:chExt cx="1498680" cy="1104480"/>
              </a:xfrm>
            </p:grpSpPr>
            <p:sp>
              <p:nvSpPr>
                <p:cNvPr id="100"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2" name=""/>
              <p:cNvGrpSpPr/>
              <p:nvPr/>
            </p:nvGrpSpPr>
            <p:grpSpPr>
              <a:xfrm>
                <a:off x="6273360" y="-21240"/>
                <a:ext cx="2867400" cy="2268360"/>
                <a:chOff x="6273360" y="-21240"/>
                <a:chExt cx="2867400" cy="2268360"/>
              </a:xfrm>
            </p:grpSpPr>
            <p:grpSp>
              <p:nvGrpSpPr>
                <p:cNvPr id="103" name=""/>
                <p:cNvGrpSpPr/>
                <p:nvPr/>
              </p:nvGrpSpPr>
              <p:grpSpPr>
                <a:xfrm>
                  <a:off x="7834680" y="842760"/>
                  <a:ext cx="1064160" cy="1141560"/>
                  <a:chOff x="7834680" y="842760"/>
                  <a:chExt cx="1064160" cy="1141560"/>
                </a:xfrm>
              </p:grpSpPr>
              <p:sp>
                <p:nvSpPr>
                  <p:cNvPr id="104"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 name=""/>
                <p:cNvGrpSpPr/>
                <p:nvPr/>
              </p:nvGrpSpPr>
              <p:grpSpPr>
                <a:xfrm>
                  <a:off x="7844760" y="770760"/>
                  <a:ext cx="1265760" cy="1052640"/>
                  <a:chOff x="7844760" y="770760"/>
                  <a:chExt cx="1265760" cy="1052640"/>
                </a:xfrm>
              </p:grpSpPr>
              <p:sp>
                <p:nvSpPr>
                  <p:cNvPr id="107"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7840440" y="735480"/>
                  <a:ext cx="1288080" cy="828720"/>
                  <a:chOff x="7840440" y="735480"/>
                  <a:chExt cx="1288080" cy="828720"/>
                </a:xfrm>
              </p:grpSpPr>
              <p:sp>
                <p:nvSpPr>
                  <p:cNvPr id="110"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2" name=""/>
                <p:cNvGrpSpPr/>
                <p:nvPr/>
              </p:nvGrpSpPr>
              <p:grpSpPr>
                <a:xfrm>
                  <a:off x="7837200" y="695880"/>
                  <a:ext cx="1303560" cy="669240"/>
                  <a:chOff x="7837200" y="695880"/>
                  <a:chExt cx="1303560" cy="669240"/>
                </a:xfrm>
              </p:grpSpPr>
              <p:sp>
                <p:nvSpPr>
                  <p:cNvPr id="113"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
                <p:cNvGrpSpPr/>
                <p:nvPr/>
              </p:nvGrpSpPr>
              <p:grpSpPr>
                <a:xfrm>
                  <a:off x="7852680" y="657720"/>
                  <a:ext cx="1223640" cy="417960"/>
                  <a:chOff x="7852680" y="657720"/>
                  <a:chExt cx="1223640" cy="417960"/>
                </a:xfrm>
              </p:grpSpPr>
              <p:sp>
                <p:nvSpPr>
                  <p:cNvPr id="116"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8" name=""/>
                <p:cNvGrpSpPr/>
                <p:nvPr/>
              </p:nvGrpSpPr>
              <p:grpSpPr>
                <a:xfrm>
                  <a:off x="7871760" y="632880"/>
                  <a:ext cx="1106280" cy="184320"/>
                  <a:chOff x="7871760" y="632880"/>
                  <a:chExt cx="1106280" cy="184320"/>
                </a:xfrm>
              </p:grpSpPr>
              <p:sp>
                <p:nvSpPr>
                  <p:cNvPr id="119"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7845480" y="419760"/>
                  <a:ext cx="983520" cy="326880"/>
                  <a:chOff x="7845480" y="419760"/>
                  <a:chExt cx="983520" cy="326880"/>
                </a:xfrm>
              </p:grpSpPr>
              <p:sp>
                <p:nvSpPr>
                  <p:cNvPr id="122"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6538320" y="906120"/>
                  <a:ext cx="1063440" cy="1140840"/>
                  <a:chOff x="6538320" y="906120"/>
                  <a:chExt cx="1063440" cy="1140840"/>
                </a:xfrm>
              </p:grpSpPr>
              <p:sp>
                <p:nvSpPr>
                  <p:cNvPr id="125"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 name=""/>
                <p:cNvGrpSpPr/>
                <p:nvPr/>
              </p:nvGrpSpPr>
              <p:grpSpPr>
                <a:xfrm>
                  <a:off x="6303960" y="861120"/>
                  <a:ext cx="1266120" cy="1053000"/>
                  <a:chOff x="6303960" y="861120"/>
                  <a:chExt cx="1266120" cy="1053000"/>
                </a:xfrm>
              </p:grpSpPr>
              <p:sp>
                <p:nvSpPr>
                  <p:cNvPr id="128"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0" name=""/>
                <p:cNvGrpSpPr/>
                <p:nvPr/>
              </p:nvGrpSpPr>
              <p:grpSpPr>
                <a:xfrm>
                  <a:off x="6285960" y="826920"/>
                  <a:ext cx="1288800" cy="828720"/>
                  <a:chOff x="6285960" y="826920"/>
                  <a:chExt cx="1288800" cy="828720"/>
                </a:xfrm>
              </p:grpSpPr>
              <p:sp>
                <p:nvSpPr>
                  <p:cNvPr id="131"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 name=""/>
                <p:cNvGrpSpPr/>
                <p:nvPr/>
              </p:nvGrpSpPr>
              <p:grpSpPr>
                <a:xfrm>
                  <a:off x="6273360" y="787320"/>
                  <a:ext cx="1303920" cy="668520"/>
                  <a:chOff x="6273360" y="787320"/>
                  <a:chExt cx="1303920" cy="668520"/>
                </a:xfrm>
              </p:grpSpPr>
              <p:sp>
                <p:nvSpPr>
                  <p:cNvPr id="134"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6" name=""/>
                <p:cNvGrpSpPr/>
                <p:nvPr/>
              </p:nvGrpSpPr>
              <p:grpSpPr>
                <a:xfrm>
                  <a:off x="6338880" y="749520"/>
                  <a:ext cx="1222560" cy="416160"/>
                  <a:chOff x="6338880" y="749520"/>
                  <a:chExt cx="1222560" cy="416160"/>
                </a:xfrm>
              </p:grpSpPr>
              <p:sp>
                <p:nvSpPr>
                  <p:cNvPr id="137"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9" name=""/>
                <p:cNvGrpSpPr/>
                <p:nvPr/>
              </p:nvGrpSpPr>
              <p:grpSpPr>
                <a:xfrm>
                  <a:off x="6436080" y="722880"/>
                  <a:ext cx="1106640" cy="184320"/>
                  <a:chOff x="6436080" y="722880"/>
                  <a:chExt cx="1106640" cy="184320"/>
                </a:xfrm>
              </p:grpSpPr>
              <p:sp>
                <p:nvSpPr>
                  <p:cNvPr id="140"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 name=""/>
                <p:cNvGrpSpPr/>
                <p:nvPr/>
              </p:nvGrpSpPr>
              <p:grpSpPr>
                <a:xfrm>
                  <a:off x="6585480" y="510120"/>
                  <a:ext cx="983880" cy="326880"/>
                  <a:chOff x="6585480" y="510120"/>
                  <a:chExt cx="983880" cy="326880"/>
                </a:xfrm>
              </p:grpSpPr>
              <p:sp>
                <p:nvSpPr>
                  <p:cNvPr id="143"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5" name=""/>
                <p:cNvGrpSpPr/>
                <p:nvPr/>
              </p:nvGrpSpPr>
              <p:grpSpPr>
                <a:xfrm>
                  <a:off x="6638400" y="390600"/>
                  <a:ext cx="967320" cy="451800"/>
                  <a:chOff x="6638400" y="390600"/>
                  <a:chExt cx="967320" cy="451800"/>
                </a:xfrm>
              </p:grpSpPr>
              <p:sp>
                <p:nvSpPr>
                  <p:cNvPr id="146"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 name=""/>
                <p:cNvGrpSpPr/>
                <p:nvPr/>
              </p:nvGrpSpPr>
              <p:grpSpPr>
                <a:xfrm>
                  <a:off x="6751800" y="222480"/>
                  <a:ext cx="902520" cy="627120"/>
                  <a:chOff x="6751800" y="222480"/>
                  <a:chExt cx="902520" cy="627120"/>
                </a:xfrm>
              </p:grpSpPr>
              <p:sp>
                <p:nvSpPr>
                  <p:cNvPr id="149"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 name=""/>
                <p:cNvGrpSpPr/>
                <p:nvPr/>
              </p:nvGrpSpPr>
              <p:grpSpPr>
                <a:xfrm>
                  <a:off x="6867720" y="57600"/>
                  <a:ext cx="825120" cy="761760"/>
                  <a:chOff x="6867720" y="57600"/>
                  <a:chExt cx="825120" cy="761760"/>
                </a:xfrm>
              </p:grpSpPr>
              <p:sp>
                <p:nvSpPr>
                  <p:cNvPr id="152"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7111800" y="15840"/>
                  <a:ext cx="608040" cy="784800"/>
                  <a:chOff x="7111800" y="15840"/>
                  <a:chExt cx="608040" cy="784800"/>
                </a:xfrm>
              </p:grpSpPr>
              <p:sp>
                <p:nvSpPr>
                  <p:cNvPr id="155"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6"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7287480" y="-21240"/>
                  <a:ext cx="466560" cy="808200"/>
                  <a:chOff x="7287480" y="-21240"/>
                  <a:chExt cx="466560" cy="808200"/>
                </a:xfrm>
              </p:grpSpPr>
              <p:sp>
                <p:nvSpPr>
                  <p:cNvPr id="158"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0" name=""/>
                <p:cNvGrpSpPr/>
                <p:nvPr/>
              </p:nvGrpSpPr>
              <p:grpSpPr>
                <a:xfrm>
                  <a:off x="7793280" y="272160"/>
                  <a:ext cx="963720" cy="462960"/>
                  <a:chOff x="7793280" y="272160"/>
                  <a:chExt cx="963720" cy="462960"/>
                </a:xfrm>
              </p:grpSpPr>
              <p:sp>
                <p:nvSpPr>
                  <p:cNvPr id="161"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7737840" y="136080"/>
                  <a:ext cx="915840" cy="604800"/>
                  <a:chOff x="7737840" y="136080"/>
                  <a:chExt cx="915840" cy="604800"/>
                </a:xfrm>
              </p:grpSpPr>
              <p:sp>
                <p:nvSpPr>
                  <p:cNvPr id="164"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5"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6"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67"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8" name=""/>
                <p:cNvGrpSpPr/>
                <p:nvPr/>
              </p:nvGrpSpPr>
              <p:grpSpPr>
                <a:xfrm>
                  <a:off x="7665480" y="-11160"/>
                  <a:ext cx="497520" cy="790920"/>
                  <a:chOff x="7665480" y="-11160"/>
                  <a:chExt cx="497520" cy="790920"/>
                </a:xfrm>
              </p:grpSpPr>
              <p:sp>
                <p:nvSpPr>
                  <p:cNvPr id="169"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0"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7662960" y="38160"/>
                  <a:ext cx="785880" cy="747360"/>
                  <a:chOff x="7662960" y="38160"/>
                  <a:chExt cx="785880" cy="747360"/>
                </a:xfrm>
              </p:grpSpPr>
              <p:sp>
                <p:nvSpPr>
                  <p:cNvPr id="172"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3"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
                <p:cNvGrpSpPr/>
                <p:nvPr/>
              </p:nvGrpSpPr>
              <p:grpSpPr>
                <a:xfrm>
                  <a:off x="7708680" y="-1440"/>
                  <a:ext cx="177840" cy="746640"/>
                  <a:chOff x="7708680" y="-1440"/>
                  <a:chExt cx="177840" cy="746640"/>
                </a:xfrm>
              </p:grpSpPr>
              <p:sp>
                <p:nvSpPr>
                  <p:cNvPr id="175"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76"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77" name=""/>
                <p:cNvGrpSpPr/>
                <p:nvPr/>
              </p:nvGrpSpPr>
              <p:grpSpPr>
                <a:xfrm>
                  <a:off x="6711120" y="929880"/>
                  <a:ext cx="912960" cy="1248840"/>
                  <a:chOff x="6711120" y="929880"/>
                  <a:chExt cx="912960" cy="1248840"/>
                </a:xfrm>
              </p:grpSpPr>
              <p:sp>
                <p:nvSpPr>
                  <p:cNvPr id="178"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79"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0" name=""/>
                <p:cNvGrpSpPr/>
                <p:nvPr/>
              </p:nvGrpSpPr>
              <p:grpSpPr>
                <a:xfrm>
                  <a:off x="7014240" y="979200"/>
                  <a:ext cx="616680" cy="1248480"/>
                  <a:chOff x="7014240" y="979200"/>
                  <a:chExt cx="616680" cy="1248480"/>
                </a:xfrm>
              </p:grpSpPr>
              <p:sp>
                <p:nvSpPr>
                  <p:cNvPr id="181"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2"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3" name=""/>
                <p:cNvGrpSpPr/>
                <p:nvPr/>
              </p:nvGrpSpPr>
              <p:grpSpPr>
                <a:xfrm>
                  <a:off x="7311960" y="1001160"/>
                  <a:ext cx="364680" cy="1217880"/>
                  <a:chOff x="7311960" y="1001160"/>
                  <a:chExt cx="364680" cy="1217880"/>
                </a:xfrm>
              </p:grpSpPr>
              <p:sp>
                <p:nvSpPr>
                  <p:cNvPr id="184"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5"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6" name=""/>
                <p:cNvGrpSpPr/>
                <p:nvPr/>
              </p:nvGrpSpPr>
              <p:grpSpPr>
                <a:xfrm>
                  <a:off x="7798680" y="909360"/>
                  <a:ext cx="949680" cy="1229040"/>
                  <a:chOff x="7798680" y="909360"/>
                  <a:chExt cx="949680" cy="1229040"/>
                </a:xfrm>
              </p:grpSpPr>
              <p:sp>
                <p:nvSpPr>
                  <p:cNvPr id="187"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89" name=""/>
                <p:cNvGrpSpPr/>
                <p:nvPr/>
              </p:nvGrpSpPr>
              <p:grpSpPr>
                <a:xfrm>
                  <a:off x="7786440" y="956160"/>
                  <a:ext cx="732960" cy="1261800"/>
                  <a:chOff x="7786440" y="956160"/>
                  <a:chExt cx="732960" cy="1261800"/>
                </a:xfrm>
              </p:grpSpPr>
              <p:sp>
                <p:nvSpPr>
                  <p:cNvPr id="190"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92" name=""/>
                <p:cNvGrpSpPr/>
                <p:nvPr/>
              </p:nvGrpSpPr>
              <p:grpSpPr>
                <a:xfrm>
                  <a:off x="7756920" y="1005120"/>
                  <a:ext cx="510120" cy="1242000"/>
                  <a:chOff x="7756920" y="1005120"/>
                  <a:chExt cx="510120" cy="1242000"/>
                </a:xfrm>
              </p:grpSpPr>
              <p:sp>
                <p:nvSpPr>
                  <p:cNvPr id="193"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7733880" y="1058760"/>
                  <a:ext cx="290160" cy="1155960"/>
                  <a:chOff x="7733880" y="1058760"/>
                  <a:chExt cx="290160" cy="1155960"/>
                </a:xfrm>
              </p:grpSpPr>
              <p:sp>
                <p:nvSpPr>
                  <p:cNvPr id="196"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8" name=""/>
                <p:cNvGrpSpPr/>
                <p:nvPr/>
              </p:nvGrpSpPr>
              <p:grpSpPr>
                <a:xfrm>
                  <a:off x="7500960" y="1077480"/>
                  <a:ext cx="276120" cy="1131480"/>
                  <a:chOff x="7500960" y="1077480"/>
                  <a:chExt cx="276120" cy="1131480"/>
                </a:xfrm>
              </p:grpSpPr>
              <p:sp>
                <p:nvSpPr>
                  <p:cNvPr id="199"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01"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22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2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2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0154-99EB-43FE-964A-BF66588404D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64" name=""/>
          <p:cNvGrpSpPr/>
          <p:nvPr/>
        </p:nvGrpSpPr>
        <p:grpSpPr>
          <a:xfrm>
            <a:off x="2010960" y="245520"/>
            <a:ext cx="7128000" cy="7923600"/>
            <a:chOff x="2010960" y="245520"/>
            <a:chExt cx="7128000" cy="7923600"/>
          </a:xfrm>
        </p:grpSpPr>
        <p:grpSp>
          <p:nvGrpSpPr>
            <p:cNvPr id="265" name=""/>
            <p:cNvGrpSpPr/>
            <p:nvPr/>
          </p:nvGrpSpPr>
          <p:grpSpPr>
            <a:xfrm>
              <a:off x="3483000" y="954000"/>
              <a:ext cx="946080" cy="709560"/>
              <a:chOff x="3483000" y="954000"/>
              <a:chExt cx="946080" cy="709560"/>
            </a:xfrm>
          </p:grpSpPr>
          <p:sp>
            <p:nvSpPr>
              <p:cNvPr id="266"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8" name=""/>
            <p:cNvGrpSpPr/>
            <p:nvPr/>
          </p:nvGrpSpPr>
          <p:grpSpPr>
            <a:xfrm>
              <a:off x="2010960" y="245520"/>
              <a:ext cx="7128000" cy="7705800"/>
              <a:chOff x="2010960" y="245520"/>
              <a:chExt cx="7128000" cy="7705800"/>
            </a:xfrm>
          </p:grpSpPr>
          <p:grpSp>
            <p:nvGrpSpPr>
              <p:cNvPr id="269" name=""/>
              <p:cNvGrpSpPr/>
              <p:nvPr/>
            </p:nvGrpSpPr>
            <p:grpSpPr>
              <a:xfrm>
                <a:off x="2010960" y="245520"/>
                <a:ext cx="6891120" cy="5452200"/>
                <a:chOff x="2010960" y="245520"/>
                <a:chExt cx="6891120" cy="5452200"/>
              </a:xfrm>
            </p:grpSpPr>
            <p:grpSp>
              <p:nvGrpSpPr>
                <p:cNvPr id="270" name=""/>
                <p:cNvGrpSpPr/>
                <p:nvPr/>
              </p:nvGrpSpPr>
              <p:grpSpPr>
                <a:xfrm>
                  <a:off x="3735720" y="1266120"/>
                  <a:ext cx="3599280" cy="2652120"/>
                  <a:chOff x="3735720" y="1266120"/>
                  <a:chExt cx="3599280" cy="2652120"/>
                </a:xfrm>
              </p:grpSpPr>
              <p:sp>
                <p:nvSpPr>
                  <p:cNvPr id="271"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73" name=""/>
                <p:cNvGrpSpPr/>
                <p:nvPr/>
              </p:nvGrpSpPr>
              <p:grpSpPr>
                <a:xfrm>
                  <a:off x="2010960" y="245520"/>
                  <a:ext cx="6891120" cy="5452200"/>
                  <a:chOff x="2010960" y="245520"/>
                  <a:chExt cx="6891120" cy="5452200"/>
                </a:xfrm>
              </p:grpSpPr>
              <p:grpSp>
                <p:nvGrpSpPr>
                  <p:cNvPr id="274" name=""/>
                  <p:cNvGrpSpPr/>
                  <p:nvPr/>
                </p:nvGrpSpPr>
                <p:grpSpPr>
                  <a:xfrm>
                    <a:off x="5762160" y="2322000"/>
                    <a:ext cx="2558520" cy="2742840"/>
                    <a:chOff x="5762160" y="2322000"/>
                    <a:chExt cx="2558520" cy="2742840"/>
                  </a:xfrm>
                </p:grpSpPr>
                <p:sp>
                  <p:nvSpPr>
                    <p:cNvPr id="275"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77" name=""/>
                  <p:cNvGrpSpPr/>
                  <p:nvPr/>
                </p:nvGrpSpPr>
                <p:grpSpPr>
                  <a:xfrm>
                    <a:off x="5787720" y="2148480"/>
                    <a:ext cx="3040200" cy="2529360"/>
                    <a:chOff x="5787720" y="2148480"/>
                    <a:chExt cx="3040200" cy="2529360"/>
                  </a:xfrm>
                </p:grpSpPr>
                <p:sp>
                  <p:nvSpPr>
                    <p:cNvPr id="278"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79"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5776200" y="2065320"/>
                    <a:ext cx="3096360" cy="1992600"/>
                    <a:chOff x="5776200" y="2065320"/>
                    <a:chExt cx="3096360" cy="1992600"/>
                  </a:xfrm>
                </p:grpSpPr>
                <p:sp>
                  <p:nvSpPr>
                    <p:cNvPr id="281"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2"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5768280" y="1970280"/>
                    <a:ext cx="3133800" cy="1608120"/>
                    <a:chOff x="5768280" y="1970280"/>
                    <a:chExt cx="3133800" cy="1608120"/>
                  </a:xfrm>
                </p:grpSpPr>
                <p:sp>
                  <p:nvSpPr>
                    <p:cNvPr id="284"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5"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5806080" y="1879920"/>
                    <a:ext cx="2940120" cy="1001880"/>
                    <a:chOff x="5806080" y="1879920"/>
                    <a:chExt cx="2940120" cy="1001880"/>
                  </a:xfrm>
                </p:grpSpPr>
                <p:sp>
                  <p:nvSpPr>
                    <p:cNvPr id="287"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88"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5851440" y="1815480"/>
                    <a:ext cx="2658600" cy="446040"/>
                    <a:chOff x="5851440" y="1815480"/>
                    <a:chExt cx="2658600" cy="446040"/>
                  </a:xfrm>
                </p:grpSpPr>
                <p:sp>
                  <p:nvSpPr>
                    <p:cNvPr id="290"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1"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2" name=""/>
                  <p:cNvGrpSpPr/>
                  <p:nvPr/>
                </p:nvGrpSpPr>
                <p:grpSpPr>
                  <a:xfrm>
                    <a:off x="5788440" y="1303920"/>
                    <a:ext cx="2364120" cy="787320"/>
                    <a:chOff x="5788440" y="1303920"/>
                    <a:chExt cx="2364120" cy="787320"/>
                  </a:xfrm>
                </p:grpSpPr>
                <p:sp>
                  <p:nvSpPr>
                    <p:cNvPr id="293"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4"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5" name=""/>
                  <p:cNvGrpSpPr/>
                  <p:nvPr/>
                </p:nvGrpSpPr>
                <p:grpSpPr>
                  <a:xfrm>
                    <a:off x="2646720" y="2473920"/>
                    <a:ext cx="2556720" cy="2742120"/>
                    <a:chOff x="2646720" y="2473920"/>
                    <a:chExt cx="2556720" cy="2742120"/>
                  </a:xfrm>
                </p:grpSpPr>
                <p:sp>
                  <p:nvSpPr>
                    <p:cNvPr id="296"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97"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298" name=""/>
                  <p:cNvGrpSpPr/>
                  <p:nvPr/>
                </p:nvGrpSpPr>
                <p:grpSpPr>
                  <a:xfrm>
                    <a:off x="2085120" y="2366640"/>
                    <a:ext cx="3041280" cy="2529720"/>
                    <a:chOff x="2085120" y="2366640"/>
                    <a:chExt cx="3041280" cy="2529720"/>
                  </a:xfrm>
                </p:grpSpPr>
                <p:sp>
                  <p:nvSpPr>
                    <p:cNvPr id="299"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0"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1" name=""/>
                  <p:cNvGrpSpPr/>
                  <p:nvPr/>
                </p:nvGrpSpPr>
                <p:grpSpPr>
                  <a:xfrm>
                    <a:off x="2040840" y="2283480"/>
                    <a:ext cx="3096360" cy="1992600"/>
                    <a:chOff x="2040840" y="2283480"/>
                    <a:chExt cx="3096360" cy="1992600"/>
                  </a:xfrm>
                </p:grpSpPr>
                <p:sp>
                  <p:nvSpPr>
                    <p:cNvPr id="302"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3"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4" name=""/>
                  <p:cNvGrpSpPr/>
                  <p:nvPr/>
                </p:nvGrpSpPr>
                <p:grpSpPr>
                  <a:xfrm>
                    <a:off x="2010960" y="2188440"/>
                    <a:ext cx="3134160" cy="1607760"/>
                    <a:chOff x="2010960" y="2188440"/>
                    <a:chExt cx="3134160" cy="1607760"/>
                  </a:xfrm>
                </p:grpSpPr>
                <p:sp>
                  <p:nvSpPr>
                    <p:cNvPr id="305"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6"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07" name=""/>
                  <p:cNvGrpSpPr/>
                  <p:nvPr/>
                </p:nvGrpSpPr>
                <p:grpSpPr>
                  <a:xfrm>
                    <a:off x="2166120" y="2098080"/>
                    <a:ext cx="2940840" cy="1002240"/>
                    <a:chOff x="2166120" y="2098080"/>
                    <a:chExt cx="2940840" cy="1002240"/>
                  </a:xfrm>
                </p:grpSpPr>
                <p:sp>
                  <p:nvSpPr>
                    <p:cNvPr id="308"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09"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0" name=""/>
                  <p:cNvGrpSpPr/>
                  <p:nvPr/>
                </p:nvGrpSpPr>
                <p:grpSpPr>
                  <a:xfrm>
                    <a:off x="2403720" y="2033640"/>
                    <a:ext cx="2658600" cy="446040"/>
                    <a:chOff x="2403720" y="2033640"/>
                    <a:chExt cx="2658600" cy="446040"/>
                  </a:xfrm>
                </p:grpSpPr>
                <p:sp>
                  <p:nvSpPr>
                    <p:cNvPr id="311"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2"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13" name=""/>
                  <p:cNvGrpSpPr/>
                  <p:nvPr/>
                </p:nvGrpSpPr>
                <p:grpSpPr>
                  <a:xfrm>
                    <a:off x="2760840" y="1522440"/>
                    <a:ext cx="2363760" cy="787320"/>
                    <a:chOff x="2760840" y="1522440"/>
                    <a:chExt cx="2363760" cy="787320"/>
                  </a:xfrm>
                </p:grpSpPr>
                <p:sp>
                  <p:nvSpPr>
                    <p:cNvPr id="314"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6" name=""/>
                  <p:cNvGrpSpPr/>
                  <p:nvPr/>
                </p:nvGrpSpPr>
                <p:grpSpPr>
                  <a:xfrm>
                    <a:off x="2887200" y="1236600"/>
                    <a:ext cx="2325240" cy="1084320"/>
                    <a:chOff x="2887200" y="1236600"/>
                    <a:chExt cx="2325240" cy="1084320"/>
                  </a:xfrm>
                </p:grpSpPr>
                <p:sp>
                  <p:nvSpPr>
                    <p:cNvPr id="317"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8"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3160440" y="831240"/>
                    <a:ext cx="2170800" cy="1508040"/>
                    <a:chOff x="3160440" y="831240"/>
                    <a:chExt cx="2170800" cy="1508040"/>
                  </a:xfrm>
                </p:grpSpPr>
                <p:sp>
                  <p:nvSpPr>
                    <p:cNvPr id="320"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1"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3437640" y="436320"/>
                    <a:ext cx="1987200" cy="1831320"/>
                    <a:chOff x="3437640" y="436320"/>
                    <a:chExt cx="1987200" cy="1831320"/>
                  </a:xfrm>
                </p:grpSpPr>
                <p:sp>
                  <p:nvSpPr>
                    <p:cNvPr id="323"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4"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026960" y="335520"/>
                    <a:ext cx="1461240" cy="1885680"/>
                    <a:chOff x="4026960" y="335520"/>
                    <a:chExt cx="1461240" cy="1885680"/>
                  </a:xfrm>
                </p:grpSpPr>
                <p:sp>
                  <p:nvSpPr>
                    <p:cNvPr id="326"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27"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4448160" y="245520"/>
                    <a:ext cx="1121760" cy="1946520"/>
                    <a:chOff x="4448160" y="245520"/>
                    <a:chExt cx="1121760" cy="1946520"/>
                  </a:xfrm>
                </p:grpSpPr>
                <p:sp>
                  <p:nvSpPr>
                    <p:cNvPr id="329"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0"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661720" y="952560"/>
                    <a:ext cx="2317320" cy="1112040"/>
                    <a:chOff x="5661720" y="952560"/>
                    <a:chExt cx="2317320" cy="1112040"/>
                  </a:xfrm>
                </p:grpSpPr>
                <p:sp>
                  <p:nvSpPr>
                    <p:cNvPr id="332"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3"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4" name=""/>
                  <p:cNvGrpSpPr/>
                  <p:nvPr/>
                </p:nvGrpSpPr>
                <p:grpSpPr>
                  <a:xfrm>
                    <a:off x="5529600" y="626400"/>
                    <a:ext cx="2198880" cy="1451160"/>
                    <a:chOff x="5529600" y="626400"/>
                    <a:chExt cx="2198880" cy="1451160"/>
                  </a:xfrm>
                </p:grpSpPr>
                <p:sp>
                  <p:nvSpPr>
                    <p:cNvPr id="335"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6"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7"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9" name=""/>
                  <p:cNvGrpSpPr/>
                  <p:nvPr/>
                </p:nvGrpSpPr>
                <p:grpSpPr>
                  <a:xfrm>
                    <a:off x="5355720" y="270000"/>
                    <a:ext cx="1196280" cy="1901160"/>
                    <a:chOff x="5355720" y="270000"/>
                    <a:chExt cx="1196280" cy="1901160"/>
                  </a:xfrm>
                </p:grpSpPr>
                <p:sp>
                  <p:nvSpPr>
                    <p:cNvPr id="340"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1"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2" name=""/>
                  <p:cNvGrpSpPr/>
                  <p:nvPr/>
                </p:nvGrpSpPr>
                <p:grpSpPr>
                  <a:xfrm>
                    <a:off x="5347440" y="388800"/>
                    <a:ext cx="1891440" cy="1796760"/>
                    <a:chOff x="5347440" y="388800"/>
                    <a:chExt cx="1891440" cy="1796760"/>
                  </a:xfrm>
                </p:grpSpPr>
                <p:sp>
                  <p:nvSpPr>
                    <p:cNvPr id="343"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4"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5" name=""/>
                  <p:cNvGrpSpPr/>
                  <p:nvPr/>
                </p:nvGrpSpPr>
                <p:grpSpPr>
                  <a:xfrm>
                    <a:off x="5458320" y="292680"/>
                    <a:ext cx="426960" cy="1795320"/>
                    <a:chOff x="5458320" y="292680"/>
                    <a:chExt cx="426960" cy="1795320"/>
                  </a:xfrm>
                </p:grpSpPr>
                <p:sp>
                  <p:nvSpPr>
                    <p:cNvPr id="346"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47"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8" name=""/>
                  <p:cNvGrpSpPr/>
                  <p:nvPr/>
                </p:nvGrpSpPr>
                <p:grpSpPr>
                  <a:xfrm>
                    <a:off x="3062880" y="2530440"/>
                    <a:ext cx="2195280" cy="3003480"/>
                    <a:chOff x="3062880" y="2530440"/>
                    <a:chExt cx="2195280" cy="3003480"/>
                  </a:xfrm>
                </p:grpSpPr>
                <p:sp>
                  <p:nvSpPr>
                    <p:cNvPr id="349"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0"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1" name=""/>
                  <p:cNvGrpSpPr/>
                  <p:nvPr/>
                </p:nvGrpSpPr>
                <p:grpSpPr>
                  <a:xfrm>
                    <a:off x="3791520" y="2650320"/>
                    <a:ext cx="1482840" cy="3000240"/>
                    <a:chOff x="3791520" y="2650320"/>
                    <a:chExt cx="1482840" cy="3000240"/>
                  </a:xfrm>
                </p:grpSpPr>
                <p:sp>
                  <p:nvSpPr>
                    <p:cNvPr id="352"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3"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4" name=""/>
                  <p:cNvGrpSpPr/>
                  <p:nvPr/>
                </p:nvGrpSpPr>
                <p:grpSpPr>
                  <a:xfrm>
                    <a:off x="4509000" y="2703240"/>
                    <a:ext cx="874800" cy="2927520"/>
                    <a:chOff x="4509000" y="2703240"/>
                    <a:chExt cx="874800" cy="2927520"/>
                  </a:xfrm>
                </p:grpSpPr>
                <p:sp>
                  <p:nvSpPr>
                    <p:cNvPr id="355"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57" name=""/>
                  <p:cNvGrpSpPr/>
                  <p:nvPr/>
                </p:nvGrpSpPr>
                <p:grpSpPr>
                  <a:xfrm>
                    <a:off x="5678280" y="2482920"/>
                    <a:ext cx="2280240" cy="2953800"/>
                    <a:chOff x="5678280" y="2482920"/>
                    <a:chExt cx="2280240" cy="2953800"/>
                  </a:xfrm>
                </p:grpSpPr>
                <p:sp>
                  <p:nvSpPr>
                    <p:cNvPr id="358"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0" name=""/>
                  <p:cNvGrpSpPr/>
                  <p:nvPr/>
                </p:nvGrpSpPr>
                <p:grpSpPr>
                  <a:xfrm>
                    <a:off x="5648400" y="2593440"/>
                    <a:ext cx="1758240" cy="3032280"/>
                    <a:chOff x="5648400" y="2593440"/>
                    <a:chExt cx="1758240" cy="3032280"/>
                  </a:xfrm>
                </p:grpSpPr>
                <p:sp>
                  <p:nvSpPr>
                    <p:cNvPr id="361"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363" name=""/>
                  <p:cNvGrpSpPr/>
                  <p:nvPr/>
                </p:nvGrpSpPr>
                <p:grpSpPr>
                  <a:xfrm>
                    <a:off x="5576400" y="2710800"/>
                    <a:ext cx="1224720" cy="2986920"/>
                    <a:chOff x="5576400" y="2710800"/>
                    <a:chExt cx="1224720" cy="2986920"/>
                  </a:xfrm>
                </p:grpSpPr>
                <p:sp>
                  <p:nvSpPr>
                    <p:cNvPr id="364"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6" name=""/>
                  <p:cNvGrpSpPr/>
                  <p:nvPr/>
                </p:nvGrpSpPr>
                <p:grpSpPr>
                  <a:xfrm>
                    <a:off x="5521320" y="2840760"/>
                    <a:ext cx="696960" cy="2777400"/>
                    <a:chOff x="5521320" y="2840760"/>
                    <a:chExt cx="696960" cy="2777400"/>
                  </a:xfrm>
                </p:grpSpPr>
                <p:sp>
                  <p:nvSpPr>
                    <p:cNvPr id="367"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69" name=""/>
                  <p:cNvGrpSpPr/>
                  <p:nvPr/>
                </p:nvGrpSpPr>
                <p:grpSpPr>
                  <a:xfrm>
                    <a:off x="4960800" y="2887560"/>
                    <a:ext cx="663480" cy="2717640"/>
                    <a:chOff x="4960800" y="2887560"/>
                    <a:chExt cx="663480" cy="2717640"/>
                  </a:xfrm>
                </p:grpSpPr>
                <p:sp>
                  <p:nvSpPr>
                    <p:cNvPr id="370"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372" name=""/>
              <p:cNvGrpSpPr/>
              <p:nvPr/>
            </p:nvGrpSpPr>
            <p:grpSpPr>
              <a:xfrm>
                <a:off x="2175120" y="682560"/>
                <a:ext cx="6963840" cy="7268760"/>
                <a:chOff x="2175120" y="682560"/>
                <a:chExt cx="6963840" cy="7268760"/>
              </a:xfrm>
            </p:grpSpPr>
            <p:grpSp>
              <p:nvGrpSpPr>
                <p:cNvPr id="373" name=""/>
                <p:cNvGrpSpPr/>
                <p:nvPr/>
              </p:nvGrpSpPr>
              <p:grpSpPr>
                <a:xfrm>
                  <a:off x="2175120" y="682560"/>
                  <a:ext cx="6963840" cy="7268760"/>
                  <a:chOff x="2175120" y="682560"/>
                  <a:chExt cx="6963840" cy="7268760"/>
                </a:xfrm>
              </p:grpSpPr>
              <p:sp>
                <p:nvSpPr>
                  <p:cNvPr id="374"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1"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82" name=""/>
            <p:cNvGrpSpPr/>
            <p:nvPr/>
          </p:nvGrpSpPr>
          <p:grpSpPr>
            <a:xfrm>
              <a:off x="2342880" y="712800"/>
              <a:ext cx="6410160" cy="7456320"/>
              <a:chOff x="2342880" y="712800"/>
              <a:chExt cx="6410160" cy="7456320"/>
            </a:xfrm>
          </p:grpSpPr>
          <p:sp>
            <p:nvSpPr>
              <p:cNvPr id="383"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9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9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40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3EE0-8750-4F33-A77F-8EE6D3D21FAB}"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www.archives.gov/publications/prologue/1993/spring/women-in-the-civil-war-2.html" TargetMode="External"/><Relationship Id="rId2" Type="http://schemas.openxmlformats.org/officeDocument/2006/relationships/hyperlink" Target="http://www.userpages.aug.com/captbarb/contributions.html" TargetMode="External"/><Relationship Id="rId3" Type="http://schemas.openxmlformats.org/officeDocument/2006/relationships/hyperlink" Target="http://www.americancivilwar.com/women/hbs.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harriettubmanbiography.com/db2/00122/harriettubmanbiography.com/_uimages/Tubmancoverphoto5.jpg&amp;imgrefurl=http://www.harriettubmanbiography.com/&amp;usg=__m48UTd5LvGzs7x--njTX1S8LDdM=&amp;h=904&amp;w=602&amp;sz=23&amp;hl=en&amp;start=4&amp;um=1&amp;tbnid=396LB08cHugELM:&amp;tbnh=147&amp;tbnw=98&amp;prev=/images%3Fq%3DHarriet%2BTubman%26hl%3Den%26safe%3Dactive%26sa%3DN%26um%3D1"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americancivilwar.com/women/harriet_beecher_stowe.jpg&amp;imgrefurl=http://americancivilwar.com/women/hbs.html&amp;usg=__c8BxMmXJU1GkE9kl24N9jKdBljM=&amp;h=445&amp;w=354&amp;sz=31&amp;hl=en&amp;start=5&amp;um=1&amp;tbnid=S0ERH9mRly0V4M:&amp;tbnh=127&amp;tbnw=101&amp;prev=/images%3Fq%3DHarriet%2BBeecher%2BStowe%26hl%3Den%26safe%3Dactive%26um%3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nps.gov/anti/historyculture/images/Clara-Barton_1.jpg&amp;imgrefurl=http://www.nps.gov/anti/historyculture/clarabarton.htm&amp;usg=__TQzgJsaqQOfdtjVW-AbQeRYDsx0=&amp;h=383&amp;w=285&amp;sz=27&amp;hl=en&amp;start=4&amp;um=1&amp;tbnid=ZHACBFq06uzXLM:&amp;tbnh=123&amp;tbnw=92&amp;prev=/images%3Fq%3DClara%2BBarton%26hl%3Den%26safe%3Dactive%26um%3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civilwarstory.nstemp.com/pics/rose-oneal-greenhow%2520jpg.jpg&amp;imgrefurl=http://www.civilwarstory.nstemp.com/links/women-in-the-civil-war.html&amp;usg=__SiISmKImSisK28hsKqkImsKGeTw=&amp;h=450&amp;w=341&amp;sz=21&amp;hl=en&amp;start=2&amp;um=1&amp;tbnid=5T63EAzaprz5SM:&amp;tbnh=127&amp;tbnw=96&amp;prev=/images%3Fq%3DRose%2BO%2527Neal%2BGreenhow%26hl%3Den%26safe%3Dactive%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sacs.csd109.k12.me.us/HLANE/Famous_Women/Pictures/mott.gif&amp;imgrefurl=http://www.sacs.csd109.k12.me.us/HLANE/Famous_Women/Index.html&amp;usg=__g5WCWnu3a_MRJ8Lktf13fHcEYjU=&amp;h=267&amp;w=216&amp;sz=55&amp;hl=en&amp;start=10&amp;um=1&amp;tbnid=eb9zuH73uBvN6M:&amp;tbnh=113&amp;tbnw=91&amp;prev=/images%3Fq%3DLucretia%2BMott%26hl%3Den%26safe%3Dactive%26um%3D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ffffff"/>
                </a:solidFill>
                <a:uFillTx/>
                <a:latin typeface="Comic Sans MS"/>
              </a:rPr>
              <a:t>Women’s Contributions</a:t>
            </a:r>
            <a:br>
              <a:rPr sz="6000"/>
            </a:br>
            <a:r>
              <a:rPr b="0" lang="en-US" sz="4800" spc="-1" strike="noStrike">
                <a:solidFill>
                  <a:srgbClr val="ffffff"/>
                </a:solidFill>
                <a:latin typeface="Comic Sans MS"/>
              </a:rPr>
              <a:t>to the</a:t>
            </a:r>
            <a:br>
              <a:rPr sz="4800"/>
            </a:br>
            <a:r>
              <a:rPr b="1" lang="en-US" sz="4800" spc="-1" strike="noStrike">
                <a:solidFill>
                  <a:srgbClr val="ffffff"/>
                </a:solidFill>
                <a:latin typeface="Comic Sans MS"/>
              </a:rPr>
              <a:t>CIVIL WAR</a:t>
            </a:r>
            <a:endParaRPr b="0" lang="en-US" sz="4800" spc="-1" strike="noStrike">
              <a:solidFill>
                <a:srgbClr val="ffffcc"/>
              </a:solidFill>
              <a:latin typeface="Tahoma"/>
            </a:endParaRPr>
          </a:p>
        </p:txBody>
      </p:sp>
      <p:sp>
        <p:nvSpPr>
          <p:cNvPr id="4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Lucida Sans Typewriter"/>
              </a:rPr>
              <a:t>By: Joe &amp; Shayla</a:t>
            </a:r>
            <a:endParaRPr b="0" lang="en-US" sz="3600" spc="-1" strike="noStrike">
              <a:solidFill>
                <a:srgbClr val="ffffff"/>
              </a:solidFill>
              <a:latin typeface="Tahoma"/>
            </a:endParaRPr>
          </a:p>
        </p:txBody>
      </p:sp>
      <p:pic>
        <p:nvPicPr>
          <p:cNvPr id="439" name="" descr=""/>
          <p:cNvPicPr/>
          <p:nvPr/>
        </p:nvPicPr>
        <p:blipFill>
          <a:blip r:embed="rId1"/>
          <a:stretch/>
        </p:blipFill>
        <p:spPr>
          <a:xfrm>
            <a:off x="7162920" y="2209680"/>
            <a:ext cx="1490400" cy="2878200"/>
          </a:xfrm>
          <a:prstGeom prst="rect">
            <a:avLst/>
          </a:prstGeom>
          <a:ln w="0">
            <a:noFill/>
          </a:ln>
        </p:spPr>
      </p:pic>
    </p:spTree>
  </p:cSld>
  <p:transition spd="slow" advTm="7000">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9"/>
                                        </p:tgtEl>
                                        <p:attrNameLst>
                                          <p:attrName>style.visibility</p:attrName>
                                        </p:attrNameLst>
                                      </p:cBhvr>
                                      <p:to>
                                        <p:strVal val="visible"/>
                                      </p:to>
                                    </p:set>
                                    <p:animEffect filter="blinds(horizontal)" transition="in">
                                      <p:cBhvr additive="repl">
                                        <p:cTn id="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981080" y="-36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470" name="PlaceHolder 2"/>
          <p:cNvSpPr>
            <a:spLocks noGrp="1"/>
          </p:cNvSpPr>
          <p:nvPr>
            <p:ph/>
          </p:nvPr>
        </p:nvSpPr>
        <p:spPr>
          <a:xfrm>
            <a:off x="304920" y="10666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ter this slideshow I realized that women had a lot more to do with the Civil War than what most people think. Women are just as passionate about their country as men are and are willing to risk their lives to save it.</a:t>
            </a:r>
            <a:endParaRPr b="0" lang="en-US" sz="3200" spc="-1" strike="noStrike">
              <a:solidFill>
                <a:srgbClr val="ffcc00"/>
              </a:solidFill>
              <a:latin typeface="Arial Black"/>
            </a:endParaRPr>
          </a:p>
        </p:txBody>
      </p:sp>
      <p:pic>
        <p:nvPicPr>
          <p:cNvPr id="471" name="" descr=""/>
          <p:cNvPicPr/>
          <p:nvPr/>
        </p:nvPicPr>
        <p:blipFill>
          <a:blip r:embed="rId1"/>
          <a:stretch/>
        </p:blipFill>
        <p:spPr>
          <a:xfrm>
            <a:off x="3505320" y="4495680"/>
            <a:ext cx="2009520" cy="2362320"/>
          </a:xfrm>
          <a:prstGeom prst="rect">
            <a:avLst/>
          </a:prstGeom>
          <a:ln w="0">
            <a:noFill/>
          </a:ln>
        </p:spPr>
      </p:pic>
    </p:spTree>
  </p:cSld>
  <p:transition spd="slow" advTm="12000">
    <p:wheel spokes="3"/>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1">
                                  <p:stCondLst>
                                    <p:cond delay="0"/>
                                  </p:stCondLst>
                                  <p:childTnLst>
                                    <p:set>
                                      <p:cBhvr>
                                        <p:cTn id="79" dur="1" fill="hold">
                                          <p:stCondLst>
                                            <p:cond delay="0"/>
                                          </p:stCondLst>
                                        </p:cTn>
                                        <p:tgtEl>
                                          <p:spTgt spid="469"/>
                                        </p:tgtEl>
                                        <p:attrNameLst>
                                          <p:attrName>style.visibility</p:attrName>
                                        </p:attrNameLst>
                                      </p:cBhvr>
                                      <p:to>
                                        <p:strVal val="visible"/>
                                      </p:to>
                                    </p:set>
                                    <p:animEffect filter="fade" transition="in">
                                      <p:cBhvr additive="repl">
                                        <p:cTn id="80" dur="768"/>
                                        <p:tgtEl>
                                          <p:spTgt spid="469"/>
                                        </p:tgtEl>
                                      </p:cBhvr>
                                    </p:animEffect>
                                    <p:animScale>
                                      <p:cBhvr>
                                        <p:cTn id="81" dur="768" fill="hold"/>
                                        <p:tgtEl>
                                          <p:spTgt spid="469"/>
                                        </p:tgtEl>
                                      </p:cBhvr>
                                      <p:from x="10000" y="10000"/>
                                      <p:to x="200000" y="450000"/>
                                    </p:animScale>
                                    <p:animScale>
                                      <p:cBhvr>
                                        <p:cTn id="82" dur="1230" fill="hold">
                                          <p:stCondLst>
                                            <p:cond delay="768"/>
                                          </p:stCondLst>
                                        </p:cTn>
                                        <p:tgtEl>
                                          <p:spTgt spid="469"/>
                                        </p:tgtEl>
                                      </p:cBhvr>
                                      <p:from x="200000" y="450000"/>
                                      <p:to x="100000" y="100000"/>
                                    </p:animScale>
                                    <p:set>
                                      <p:cBhvr>
                                        <p:cTn id="83" dur="768" fill="hold"/>
                                        <p:tgtEl>
                                          <p:spTgt spid="469"/>
                                        </p:tgtEl>
                                        <p:attrNameLst>
                                          <p:attrName>ppt_x</p:attrName>
                                        </p:attrNameLst>
                                      </p:cBhvr>
                                      <p:to>
                                        <p:strVal val="(0.5)"/>
                                      </p:to>
                                    </p:set>
                                    <p:anim calcmode="lin" valueType="num" from="(0.5)" to="(#ppt_x)">
                                      <p:cBhvr additive="repl">
                                        <p:cTn id="84" dur="1230" fill="hold">
                                          <p:stCondLst>
                                            <p:cond delay="768"/>
                                          </p:stCondLst>
                                        </p:cTn>
                                        <p:tgtEl>
                                          <p:spTgt spid="469"/>
                                        </p:tgtEl>
                                        <p:attrNameLst>
                                          <p:attrName>ppt_x</p:attrName>
                                        </p:attrNameLst>
                                      </p:cBhvr>
                                    </p:anim>
                                    <p:set>
                                      <p:cBhvr>
                                        <p:cTn id="85" dur="768" fill="hold"/>
                                        <p:tgtEl>
                                          <p:spTgt spid="469"/>
                                        </p:tgtEl>
                                        <p:attrNameLst>
                                          <p:attrName>ppt_y</p:attrName>
                                        </p:attrNameLst>
                                      </p:cBhvr>
                                      <p:to>
                                        <p:strVal val="(#ppt_y+0.4)"/>
                                      </p:to>
                                    </p:set>
                                    <p:anim calcmode="lin" valueType="num" from="(#ppt_y+0.4)" to="(#ppt_y)">
                                      <p:cBhvr additive="repl">
                                        <p:cTn id="86" dur="1230" fill="hold">
                                          <p:stCondLst>
                                            <p:cond delay="768"/>
                                          </p:stCondLst>
                                        </p:cTn>
                                        <p:tgtEl>
                                          <p:spTgt spid="469"/>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470">
                                            <p:txEl>
                                              <p:pRg st="0" end="0"/>
                                            </p:txEl>
                                          </p:spTgt>
                                        </p:tgtEl>
                                        <p:attrNameLst>
                                          <p:attrName>style.visibility</p:attrName>
                                        </p:attrNameLst>
                                      </p:cBhvr>
                                      <p:to>
                                        <p:strVal val="visible"/>
                                      </p:to>
                                    </p:set>
                                    <p:anim calcmode="lin" valueType="num">
                                      <p:cBhvr additive="repl">
                                        <p:cTn id="91" dur="5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92" dur="500" fill="hold"/>
                                        <p:tgtEl>
                                          <p:spTgt spid="470">
                                            <p:txEl>
                                              <p:pRg st="0" end="0"/>
                                            </p:txEl>
                                          </p:spTgt>
                                        </p:tgtEl>
                                        <p:attrNameLst>
                                          <p:attrName>ppt_h</p:attrName>
                                        </p:attrNameLst>
                                      </p:cBhvr>
                                      <p:tavLst>
                                        <p:tav tm="0">
                                          <p:val>
                                            <p:fltVal val="0"/>
                                          </p:val>
                                        </p:tav>
                                        <p:tav tm="100000">
                                          <p:val>
                                            <p:strVal val="#ppt_h"/>
                                          </p:val>
                                        </p:tav>
                                      </p:tavLst>
                                    </p:anim>
                                    <p:animEffect filter="fade" transition="in">
                                      <p:cBhvr additive="repl">
                                        <p:cTn id="93" dur="500"/>
                                        <p:tgtEl>
                                          <p:spTgt spid="47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8">
                                  <p:stCondLst>
                                    <p:cond delay="0"/>
                                  </p:stCondLst>
                                  <p:childTnLst>
                                    <p:animRot by="21600000">
                                      <p:cBhvr>
                                        <p:cTn id="97" dur="2000" fill="hold"/>
                                        <p:tgtEl>
                                          <p:spTgt spid="4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ed Work</a:t>
            </a:r>
            <a:endParaRPr b="0" lang="en-US" sz="4400" spc="-1" strike="noStrike">
              <a:solidFill>
                <a:srgbClr val="ffffcc"/>
              </a:solidFill>
              <a:latin typeface="Tahoma"/>
            </a:endParaRPr>
          </a:p>
        </p:txBody>
      </p:sp>
      <p:sp>
        <p:nvSpPr>
          <p:cNvPr id="4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archives.gov/publications/prologue/1993/spring/women-in-the-civil-war-2.htm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userpages.aug.com/captbarb/contributions.htm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3"/>
              </a:rPr>
              <a:t>http://www.americancivilwar.com/women/hbs.htm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4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ributors!</a:t>
            </a:r>
            <a:endParaRPr b="0" lang="en-US" sz="4400" spc="-1" strike="noStrike">
              <a:solidFill>
                <a:srgbClr val="ffffcc"/>
              </a:solidFill>
              <a:latin typeface="Tahoma"/>
            </a:endParaRPr>
          </a:p>
        </p:txBody>
      </p:sp>
      <p:sp>
        <p:nvSpPr>
          <p:cNvPr id="4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et Tubm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et Beecher Stow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ra Bar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se O’neal Greenho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cretia Mot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an King Tay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uised women soldi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2" name="" descr=""/>
          <p:cNvPicPr/>
          <p:nvPr/>
        </p:nvPicPr>
        <p:blipFill>
          <a:blip r:embed="rId1"/>
          <a:stretch/>
        </p:blipFill>
        <p:spPr>
          <a:xfrm>
            <a:off x="5627520" y="1905120"/>
            <a:ext cx="3516480" cy="3000240"/>
          </a:xfrm>
          <a:prstGeom prst="rect">
            <a:avLst/>
          </a:prstGeom>
          <a:ln w="0">
            <a:noFill/>
          </a:ln>
        </p:spPr>
      </p:pic>
    </p:spTree>
  </p:cSld>
  <p:transition spd="slow" advTm="10000">
    <p:zoom dir="in"/>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0.57968 0.26875 C -0.59236 0.24491 -0.59687 0.21644 -0.6 0.1875 C -0.60173 0.17153 -0.60468 0.13958 -0.60468 0.13958 C -0.60364 0.09167 -0.6092 0.01319 -0.57187 -0.01875 C -0.56632 -0.02338 -0.56041 -0.02708 -0.55468 -0.03125 C -0.54548 -0.04537 -0.53229 -0.06273 -0.51875 -0.06875 C -0.50677 -0.08472 -0.49479 -0.08935 -0.47968 -0.09792 C -0.47448 -0.09583 -0.4684 -0.09606 -0.46406 -0.09167 C -0.45139 -0.0787 -0.43385 -0.04306 -0.42187 -0.02708 C -0.38767 0.01852 -0.41788 -0.02986 -0.38281 0.03125 C -0.37743 0.04074 -0.36875 0.04583 -0.3625 0.05417 C -0.36041 0.05694 -0.35972 0.06134 -0.35781 0.06458 C -0.35295 0.07315 -0.34705 0.08102 -0.34218 0.08958 C -0.32083 0.12685 -0.30034 0.16551 -0.27656 0.2 C -0.26632 0.21481 -0.24948 0.23588 -0.23437 0.23958 C -0.21041 0.24537 -0.22291 0.24259 -0.19687 0.24792 C -0.15937 0.24537 -0.1368 0.24236 -0.10312 0.23333 C -0.09288 0.22431 -0.08055 0.22083 -0.07187 0.20833 C -0.0684 0.20324 -0.06562 0.19722 -0.0625 0.19167 C -0.05503 0.14653 -0.05885 0.10255 -0.06718 0.05833 C -0.07639 0.00949 -0.0809 -0.04097 -0.09687 -0.0875 C -0.10573 -0.11343 -0.11771 -0.13843 -0.12656 -0.16458 C -0.1375 -0.19699 -0.15347 -0.24329 -0.17986 -0.25833 C -0.19323 -0.25625 -0.19809 -0.25208 -0.21111 -0.24792 C -0.22135 -0.22708 -0.20173 -0.26481 -0.22343 -0.23125 C -0.22934 -0.22222 -0.23628 -0.20417 -0.24062 -0.19375 C -0.24375 -0.17384 -0.23906 -0.19167 -0.2533 -0.17292 C -0.25868 -0.16551 -0.25642 -0.15208 -0.25781 -0.14167 C -0.25642 -0.10417 -0.25486 -0.06782 -0.22968 -0.04375 C -0.22187 -0.03611 -0.20555 -0.03634 -0.19687 -0.03542 C -0.18541 -0.0375 -0.17378 -0.03819 -0.1625 -0.04167 C -0.15538 -0.04375 -0.1493 -0.04977 -0.14218 -0.05208 C -0.12465 -0.06597 -0.11093 -0.08472 -0.09375 -0.1 C -0.08871 -0.1044 -0.08316 -0.10787 -0.07812 -0.1125 C -0.06232 -0.12685 -0.05729 -0.13588 -0.04062 -0.14583 C -0.02621 -0.16505 -0.0158 -0.19074 -0.00937 -0.21667 C -0.00486 -0.27662 -0.01475 -0.32431 -0.03906 -0.37292 C -0.04843 -0.39167 -0.05521 -0.41481 -0.07343 -0.42083 C -0.0776 -0.42014 -0.08194 -0.4206 -0.08593 -0.41875 C -0.08802 -0.41782 -0.08889 -0.41435 -0.09062 -0.4125 C -0.1092 -0.39259 -0.11649 -0.37616 -0.12812 -0.34792 C -0.13229 -0.32569 -0.13923 -0.30856 -0.14531 -0.2875 C -0.15208 -0.26412 -0.15468 -0.23495 -0.15798 -0.21042 C -0.15694 -0.16366 -0.16354 -0.11875 -0.13437 -0.0875 C -0.13159 -0.07639 -0.12378 -0.06991 -0.11875 -0.06042 C -0.10746 -0.03935 -0.09531 -0.01065 -0.07656 -2.22222E-006 C -0.06441 0.00694 -0.04462 0.0037 -0.03593 0.00417 C -0.00833 0.0088 -0.01909 0.00625 -0.00312 0.01042 C 0.00052 0.00301 -3.61111E-006 0.00671 -3.61111E-006 -2.22222E-006 E">
                                      <p:cBhvr>
                                        <p:cTn id="13" dur="2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rriet Tubman</a:t>
            </a:r>
            <a:endParaRPr b="0" lang="en-US" sz="4400" spc="-1" strike="noStrike">
              <a:solidFill>
                <a:srgbClr val="ffffcc"/>
              </a:solidFill>
              <a:latin typeface="Tahoma"/>
            </a:endParaRPr>
          </a:p>
        </p:txBody>
      </p:sp>
      <p:sp>
        <p:nvSpPr>
          <p:cNvPr id="4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ed as Union spy</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ved as an unpaid soldie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 nurse and freedom fighte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war, she earned the name “General Tubma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45" name="" descr="">
            <a:hlinkClick r:id="rId1"/>
          </p:cNvPr>
          <p:cNvPicPr/>
          <p:nvPr/>
        </p:nvPicPr>
        <p:blipFill>
          <a:blip r:embed="rId2"/>
          <a:stretch/>
        </p:blipFill>
        <p:spPr>
          <a:xfrm>
            <a:off x="6705720" y="533520"/>
            <a:ext cx="1981080" cy="2971800"/>
          </a:xfrm>
          <a:prstGeom prst="rect">
            <a:avLst/>
          </a:prstGeom>
          <a:ln w="0">
            <a:noFill/>
          </a:ln>
        </p:spPr>
      </p:pic>
    </p:spTree>
  </p:cSld>
  <p:transition spd="slow" advTm="10000">
    <p:checker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0.65469 0.55625 C -0.63837 0.56713 -0.625 0.57106 -0.60625 0.57292 C -0.60105 0.57222 -0.59566 0.57269 -0.59063 0.57083 C -0.57639 0.56574 -0.56546 0.5412 -0.55938 0.525 C -0.55782 0.5125 -0.55382 0.50394 -0.55157 0.49167 C -0.54445 0.4537 -0.53369 0.41574 -0.52813 0.37708 C -0.52674 0.36736 -0.52639 0.35764 -0.525 0.34792 C -0.52448 0.34444 -0.52396 0.34097 -0.52344 0.3375 C -0.52414 0.30764 -0.52049 0.26366 -0.53282 0.23333 C -0.53733 0.22199 -0.5481 0.20648 -0.55625 0.2 C -0.55886 0.19792 -0.56146 0.19583 -0.56407 0.19375 C -0.56719 0.19097 -0.57344 0.18542 -0.57344 0.18542 C -0.59167 0.18819 -0.6033 0.1956 -0.61563 0.21458 C -0.62223 0.22477 -0.61598 0.21667 -0.62032 0.22708 C -0.62223 0.23148 -0.62657 0.23958 -0.62657 0.23958 C -0.63577 0.31389 -0.59896 0.37708 -0.55 0.40417 C -0.5257 0.41759 -0.51476 0.42824 -0.48907 0.43125 C -0.48438 0.43102 -0.45435 0.43079 -0.44219 0.42708 C -0.42848 0.42292 -0.41632 0.41412 -0.40313 0.40833 C -0.39323 0.39514 -0.38316 0.38403 -0.375 0.36875 C -0.3691 0.35764 -0.37414 0.36366 -0.37032 0.35208 C -0.36285 0.32986 -0.354 0.3088 -0.34844 0.28542 C -0.3415 0.25602 -0.33872 0.22384 -0.32969 0.19583 C -0.32778 0.17847 -0.32448 0.16042 -0.32032 0.14375 C -0.32153 0.11458 -0.32188 0.09815 -0.33125 0.07292 C -0.33334 0.06759 -0.33542 0.05602 -0.33907 0.05208 C -0.34289 0.04792 -0.35157 0.04167 -0.35157 0.04167 C -0.3599 0.04236 -0.36823 0.04236 -0.37657 0.04375 C -0.38525 0.04537 -0.39098 0.05347 -0.39844 0.05833 C -0.40365 0.06759 -0.40869 0.07431 -0.41563 0.08125 C -0.41997 0.09583 -0.42466 0.10741 -0.42657 0.12292 C -0.42553 0.13611 -0.42553 0.14954 -0.42344 0.1625 C -0.42292 0.16597 -0.41997 0.16782 -0.41875 0.17083 C -0.41389 0.18194 -0.41667 0.18495 -0.40782 0.19375 C -0.4007 0.20972 -0.39167 0.2213 -0.38125 0.23333 C -0.37709 0.23819 -0.37466 0.24537 -0.37032 0.25 C -0.36494 0.25556 -0.35886 0.25972 -0.35313 0.26458 C -0.34914 0.26806 -0.34636 0.27384 -0.34219 0.27708 C -0.3224 0.29306 -0.29757 0.30949 -0.275 0.31667 C -0.2658 0.31968 -0.25608 0.31991 -0.24688 0.32292 C -0.24601 0.32269 -0.22813 0.31944 -0.22657 0.31875 C -0.22032 0.31597 -0.21372 0.30949 -0.20625 0.30625 C -0.20452 0.30556 -0.2033 0.30324 -0.20157 0.30208 C -0.19653 0.29884 -0.18594 0.29375 -0.18594 0.29375 C -0.17848 0.2838 -0.16945 0.27662 -0.16094 0.26875 C -0.14705 0.25579 -0.15869 0.26574 -0.14688 0.25 C -0.14549 0.24815 -0.14358 0.24745 -0.14219 0.24583 C -0.13994 0.24329 -0.13785 0.24051 -0.13594 0.2375 C -0.12709 0.22407 -0.11719 0.2125 -0.10782 0.2 C -0.09931 0.18866 -0.10747 0.19352 -0.09844 0.18958 C -0.07917 0.15556 -0.05539 0.12801 -0.03282 0.09792 C -0.02431 0.08657 -0.01771 0.06782 -0.0125 0.05417 C -0.00556 0.03588 1.66667E-006 0.0206 1.66667E-006 4.44444E-006 E">
                                      <p:cBhvr>
                                        <p:cTn id="19" dur="2000" fill="hold"/>
                                        <p:tgtEl>
                                          <p:spTgt spid="4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rriet Beecher Stowe</a:t>
            </a:r>
            <a:endParaRPr b="0" lang="en-US" sz="4400" spc="-1" strike="noStrike">
              <a:solidFill>
                <a:srgbClr val="ffffcc"/>
              </a:solidFill>
              <a:latin typeface="Tahoma"/>
            </a:endParaRPr>
          </a:p>
        </p:txBody>
      </p:sp>
      <p:sp>
        <p:nvSpPr>
          <p:cNvPr id="4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oke against slavery in both America and Europ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published two anti-slavery novels called </a:t>
            </a:r>
            <a:r>
              <a:rPr b="0" i="1" lang="en-US" sz="3200" spc="-1" strike="noStrike">
                <a:solidFill>
                  <a:srgbClr val="ffffff"/>
                </a:solidFill>
                <a:latin typeface="Tahoma"/>
              </a:rPr>
              <a:t>A Key To Uncle Tom’s Cabin </a:t>
            </a:r>
            <a:r>
              <a:rPr b="0" lang="en-US" sz="3200" spc="-1" strike="noStrike">
                <a:solidFill>
                  <a:srgbClr val="ffffff"/>
                </a:solidFill>
                <a:latin typeface="Tahoma"/>
              </a:rPr>
              <a:t>and</a:t>
            </a:r>
            <a:r>
              <a:rPr b="0" i="1" lang="en-US" sz="3200" spc="-1" strike="noStrike">
                <a:solidFill>
                  <a:srgbClr val="ffffff"/>
                </a:solidFill>
                <a:latin typeface="Tahoma"/>
              </a:rPr>
              <a:t> Dr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came one of America’s best-paid and most famous writers</a:t>
            </a:r>
            <a:endParaRPr b="0" lang="en-US" sz="3200" spc="-1" strike="noStrike">
              <a:solidFill>
                <a:srgbClr val="ffffff"/>
              </a:solidFill>
              <a:latin typeface="Tahoma"/>
            </a:endParaRPr>
          </a:p>
        </p:txBody>
      </p:sp>
      <p:pic>
        <p:nvPicPr>
          <p:cNvPr id="448" name="" descr="">
            <a:hlinkClick r:id="rId1"/>
          </p:cNvPr>
          <p:cNvPicPr/>
          <p:nvPr/>
        </p:nvPicPr>
        <p:blipFill>
          <a:blip r:embed="rId2"/>
          <a:stretch/>
        </p:blipFill>
        <p:spPr>
          <a:xfrm>
            <a:off x="6553080" y="4724280"/>
            <a:ext cx="1981440" cy="2133720"/>
          </a:xfrm>
          <a:prstGeom prst="rect">
            <a:avLst/>
          </a:prstGeom>
          <a:ln w="0">
            <a:noFill/>
          </a:ln>
        </p:spPr>
      </p:pic>
    </p:spTree>
  </p:cSld>
  <p:transition spd="slow" advTm="10000">
    <p:comb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path" presetID="0">
                                  <p:stCondLst>
                                    <p:cond delay="0"/>
                                  </p:stCondLst>
                                  <p:childTnLst>
                                    <p:animMotion origin="layout" path="M -0.78906 -0.7125 C -0.78264 -0.72106 -0.78073 -0.71805 -0.77344 -0.72291 C -0.7658 -0.72801 -0.76007 -0.7331 -0.75156 -0.73541 C -0.74948 -0.7368 -0.74757 -0.73865 -0.74531 -0.73958 C -0.74132 -0.74143 -0.73281 -0.74375 -0.73281 -0.74375 C -0.7217 -0.7537 -0.71511 -0.75578 -0.70156 -0.75833 C -0.6507 -0.75532 -0.63368 -0.76088 -0.59531 -0.73333 C -0.58629 -0.72685 -0.57656 -0.71944 -0.56875 -0.71041 C -0.56424 -0.70509 -0.55469 -0.69583 -0.55469 -0.69583 C -0.55365 -0.69305 -0.55295 -0.68981 -0.55156 -0.6875 C -0.54844 -0.68217 -0.54063 -0.67291 -0.54063 -0.67291 C -0.52518 -0.62176 -0.54653 -0.56898 -0.58438 -0.55625 C -0.59045 -0.55069 -0.59775 -0.54676 -0.60469 -0.54375 C -0.6099 -0.54444 -0.61528 -0.54421 -0.62031 -0.54583 C -0.62535 -0.54745 -0.62952 -0.55879 -0.63125 -0.5625 C -0.63733 -0.57592 -0.63941 -0.58981 -0.64375 -0.60416 C -0.64219 -0.62291 -0.64323 -0.62407 -0.63281 -0.63333 C -0.62413 -0.65069 -0.59896 -0.65717 -0.58438 -0.66041 C -0.56945 -0.67037 -0.53889 -0.67453 -0.52188 -0.67708 C -0.49271 -0.67569 -0.46459 -0.6743 -0.43594 -0.66875 C -0.40573 -0.65532 -0.36719 -0.64745 -0.34531 -0.6125 C -0.3408 -0.60532 -0.33802 -0.59537 -0.33455 -0.5875 C -0.33125 -0.57083 -0.33195 -0.5537 -0.33924 -0.53958 C -0.34115 -0.52569 -0.34531 -0.51527 -0.35174 -0.50416 C -0.35521 -0.48495 -0.35 -0.50486 -0.35781 -0.49166 C -0.35886 -0.49004 -0.35834 -0.48703 -0.35938 -0.48564 C -0.36216 -0.48078 -0.36615 -0.47777 -0.36875 -0.47291 C -0.37031 -0.47014 -0.37188 -0.46736 -0.37361 -0.46458 C -0.37656 -0.45231 -0.37275 -0.46365 -0.37969 -0.45439 C -0.38108 -0.45231 -0.38143 -0.44953 -0.38281 -0.44791 C -0.39202 -0.4368 -0.40209 -0.42685 -0.41406 -0.42291 C -0.43403 -0.42546 -0.42466 -0.4206 -0.43594 -0.43125 C -0.43906 -0.43402 -0.44531 -0.43958 -0.44531 -0.43958 C -0.44688 -0.44328 -0.44827 -0.44676 -0.45 -0.45 C -0.45139 -0.45231 -0.45452 -0.45324 -0.45469 -0.45625 C -0.45643 -0.47523 -0.45243 -0.49676 -0.44219 -0.51041 C -0.43889 -0.52361 -0.42709 -0.53171 -0.41875 -0.53958 C -0.39775 -0.55926 -0.37691 -0.57407 -0.35174 -0.58125 C -0.34757 -0.5824 -0.34341 -0.58402 -0.33924 -0.58541 C -0.33091 -0.58819 -0.31406 -0.58958 -0.31406 -0.58958 C -0.30521 -0.58889 -0.29636 -0.58912 -0.2875 -0.5875 C -0.28108 -0.58634 -0.27847 -0.58171 -0.27361 -0.57708 C -0.26111 -0.56597 -0.25139 -0.55393 -0.24063 -0.53958 C -0.23924 -0.5375 -0.23872 -0.53379 -0.2375 -0.53125 C -0.23264 -0.52152 -0.22205 -0.5081 -0.21563 -0.5 C -0.18993 -0.46782 -0.15695 -0.44213 -0.12205 -0.43541 C -0.10729 -0.43611 -0.09271 -0.43588 -0.07813 -0.43773 C -0.07275 -0.43819 -0.06771 -0.44166 -0.0625 -0.44375 C -0.03733 -0.45439 -0.01511 -0.4662 0.00625 -0.4875 C 0.0085 -0.49328 0.0118 -0.49838 0.01406 -0.50416 C 0.01788 -0.51458 0.01857 -0.52662 0.02187 -0.5375 C 0.02708 -0.57847 0.02916 -0.63148 0.00937 -0.66666 C 0.00642 -0.67824 0.00243 -0.68773 -0.00625 -0.69166 C -0.03038 -0.68865 -0.03229 -0.68472 -0.05156 -0.66458 C -0.05417 -0.6618 -0.05677 -0.65902 -0.05938 -0.65625 C -0.06198 -0.65347 -0.06719 -0.64791 -0.06719 -0.64791 C -0.07413 -0.6324 -0.08455 -0.62083 -0.09219 -0.60625 C -0.09931 -0.59259 -0.10035 -0.57592 -0.10781 -0.5625 C -0.1092 -0.54722 -0.11129 -0.53171 -0.11406 -0.51666 C -0.11563 -0.49236 -0.11962 -0.47152 -0.12344 -0.44791 C -0.12535 -0.43703 -0.12518 -0.43194 -0.12986 -0.42291 C -0.13229 -0.40648 -0.13837 -0.39027 -0.14393 -0.375 C -0.14566 -0.36944 -0.1467 -0.36273 -0.15 -0.35833 C -0.15174 -0.35625 -0.15365 -0.35439 -0.15469 -0.35208 C -0.15608 -0.34953 -0.15643 -0.34606 -0.15781 -0.34375 C -0.15972 -0.3412 -0.16216 -0.34004 -0.16406 -0.3375 C -0.17049 -0.32893 -0.17587 -0.3162 -0.18299 -0.30833 C -0.18403 -0.30694 -0.18611 -0.30717 -0.1875 -0.30625 C -0.19688 -0.3 -0.1875 -0.30208 -0.20156 -0.29583 C -0.21042 -0.29189 -0.21962 -0.29166 -0.22813 -0.28541 C -0.24028 -0.27685 -0.25243 -0.2662 -0.26406 -0.25625 C -0.28056 -0.24236 -0.26077 -0.25833 -0.275 -0.24166 C -0.27865 -0.23727 -0.28334 -0.23495 -0.2875 -0.23125 C -0.29011 -0.24166 -0.2941 -0.25139 -0.29844 -0.26041 C -0.2974 -0.26689 -0.29775 -0.27361 -0.29549 -0.27916 C -0.29358 -0.2831 -0.28247 -0.28796 -0.27969 -0.28958 C -0.26841 -0.29629 -0.25868 -0.29838 -0.24688 -0.30208 C -0.229 -0.30787 -0.21181 -0.31389 -0.19375 -0.31875 C -0.18247 -0.31805 -0.17084 -0.31898 -0.15938 -0.31666 C -0.14479 -0.31389 -0.13403 -0.30185 -0.12031 -0.29583 C -0.10608 -0.28171 -0.09063 -0.26944 -0.07969 -0.25 C -0.06736 -0.22801 -0.0592 -0.20347 -0.05 -0.17916 C -0.0474 -0.15555 -0.04028 -0.13541 -0.03594 -0.1125 C -0.03108 -0.08703 -0.02674 -0.0618 -0.01563 -0.03958 C -0.01406 -0.0287 -0.00729 -0.00509 2.5E-006 1.11111E-006 E">
                                      <p:cBhvr>
                                        <p:cTn id="25" dur="2000" fill="hold"/>
                                        <p:tgtEl>
                                          <p:spTgt spid="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ara Barton</a:t>
            </a:r>
            <a:endParaRPr b="0" lang="en-US" sz="4400" spc="-1" strike="noStrike">
              <a:solidFill>
                <a:srgbClr val="ffffcc"/>
              </a:solidFill>
              <a:latin typeface="Tahoma"/>
            </a:endParaRPr>
          </a:p>
        </p:txBody>
      </p:sp>
      <p:sp>
        <p:nvSpPr>
          <p:cNvPr id="4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the Battle of Bull Run, she established an agency to obtain and distribute supplies to wounded soldier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862, she obtained permission to travel behind the lines, eventually reaching some of the grimmest battlefields of the wa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livered aid to soldiers of both the North and South</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1" name="" descr="">
            <a:hlinkClick r:id="rId1"/>
          </p:cNvPr>
          <p:cNvPicPr/>
          <p:nvPr/>
        </p:nvPicPr>
        <p:blipFill>
          <a:blip r:embed="rId2"/>
          <a:stretch/>
        </p:blipFill>
        <p:spPr>
          <a:xfrm>
            <a:off x="7429680" y="0"/>
            <a:ext cx="1714320" cy="2286000"/>
          </a:xfrm>
          <a:prstGeom prst="rect">
            <a:avLst/>
          </a:prstGeom>
          <a:ln w="0">
            <a:noFill/>
          </a:ln>
        </p:spPr>
      </p:pic>
    </p:spTree>
  </p:cSld>
  <p:transition spd="slow" advTm="13000">
    <p:dissolv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path" presetID="0">
                                  <p:stCondLst>
                                    <p:cond delay="0"/>
                                  </p:stCondLst>
                                  <p:childTnLst>
                                    <p:animMotion origin="layout" path="M -0.75469 0.56874 C -0.7533 0.54351 -0.75295 0.51782 -0.74687 0.49374 C -0.74184 0.43911 -0.7276 0.38726 -0.72031 0.33333 C -0.71406 0.28726 -0.71562 0.23749 -0.70469 0.19374 C -0.70278 0.17268 -0.70069 0.15185 -0.69687 0.13124 C -0.69323 0.14351 -0.69253 0.1537 -0.69062 0.16666 C -0.68802 0.18379 -0.68142 0.20925 -0.67812 0.22291 C -0.67448 0.23796 -0.67361 0.25439 -0.66875 0.26874 C -0.65764 0.30115 -0.65156 0.33472 -0.63906 0.36666 C -0.63229 0.38402 -0.62448 0.40069 -0.61875 0.41874 C -0.60382 0.46666 -0.57309 0.53634 -0.53906 0.56666 C -0.53142 0.55902 -0.53056 0.55161 -0.52656 0.53958 C -0.52274 0.52847 -0.51562 0.50624 -0.51562 0.50624 C -0.51302 0.46897 -0.51042 0.43819 -0.50469 0.40208 C -0.49427 0.33657 -0.47691 0.27291 -0.47031 0.20624 C -0.46632 0.1662 -0.46146 0.13032 -0.45312 0.09166 C -0.45035 0.0787 -0.44635 0.06388 -0.43906 0.05416 C -0.43385 0.07268 -0.43073 0.08888 -0.42812 0.10833 C -0.4224 0.19976 -0.43229 0.05416 -0.42187 0.16458 C -0.41753 0.2111 -0.41736 0.25925 -0.41406 0.30624 C -0.41042 0.35948 -0.40972 0.41458 -0.4 0.46666 C -0.39635 0.48634 -0.37899 0.57893 -0.36094 0.59999 C -0.35503 0.60694 -0.3467 0.60995 -0.33906 0.61249 C -0.30295 0.61018 -0.24861 0.61597 -0.21424 0.58749 C -0.20243 0.578 -0.1967 0.56018 -0.18906 0.54583 C -0.18681 0.53194 -0.18281 0.51828 -0.18125 0.50393 C -0.17483 0.44374 -0.17378 0.3831 -0.16406 0.32291 C -0.15538 0.26874 -0.1625 0.30856 -0.14375 0.22708 C -0.13472 0.18772 -0.13906 0.19536 -0.12344 0.16041 C -0.09844 0.10416 -0.08003 0.0736 -0.0375 0.03958 C -0.02795 0.03194 -0.01875 0.02245 -0.00781 0.01874 C -0.00139 0.01296 0 0.01041 0 -6.66667E-006 E">
                                      <p:cBhvr>
                                        <p:cTn id="31"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se O’Neal Greenhow</a:t>
            </a:r>
            <a:endParaRPr b="0" lang="en-US" sz="4400" spc="-1" strike="noStrike">
              <a:solidFill>
                <a:srgbClr val="ffffcc"/>
              </a:solidFill>
              <a:latin typeface="Tahoma"/>
            </a:endParaRPr>
          </a:p>
        </p:txBody>
      </p:sp>
      <p:sp>
        <p:nvSpPr>
          <p:cNvPr id="4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was a Confederate Sp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s a leader in Washington societ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renowned spies in the Civil War</a:t>
            </a:r>
            <a:endParaRPr b="0" lang="en-US" sz="3200" spc="-1" strike="noStrike">
              <a:solidFill>
                <a:srgbClr val="ffffff"/>
              </a:solidFill>
              <a:latin typeface="Tahoma"/>
            </a:endParaRPr>
          </a:p>
        </p:txBody>
      </p:sp>
      <p:pic>
        <p:nvPicPr>
          <p:cNvPr id="454" name="" descr="">
            <a:hlinkClick r:id="rId1"/>
          </p:cNvPr>
          <p:cNvPicPr/>
          <p:nvPr/>
        </p:nvPicPr>
        <p:blipFill>
          <a:blip r:embed="rId2"/>
          <a:stretch/>
        </p:blipFill>
        <p:spPr>
          <a:xfrm>
            <a:off x="7416720" y="1676520"/>
            <a:ext cx="1727280" cy="2286000"/>
          </a:xfrm>
          <a:prstGeom prst="rect">
            <a:avLst/>
          </a:prstGeom>
          <a:ln w="0">
            <a:noFill/>
          </a:ln>
        </p:spPr>
      </p:pic>
    </p:spTree>
  </p:cSld>
  <p:transition spd="slow" advTm="10000">
    <p:circl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path" presetID="0">
                                  <p:stCondLst>
                                    <p:cond delay="0"/>
                                  </p:stCondLst>
                                  <p:childTnLst>
                                    <p:animMotion origin="layout" path="M -0.75626 0.45625 C -0.74688 0.46574 -0.73699 0.47431 -0.72657 0.48125 C -0.7231 0.48357 -0.71928 0.48565 -0.71563 0.4875 C -0.71251 0.48912 -0.70626 0.49167 -0.70626 0.49167 C -0.68404 0.49005 -0.66268 0.4875 -0.64063 0.48334 C -0.62987 0.47616 -0.61789 0.47662 -0.60782 0.46667 C -0.60313 0.46204 -0.59619 0.45533 -0.59219 0.45 C -0.58768 0.44398 -0.58525 0.4382 -0.57969 0.43334 C -0.57709 0.42292 -0.57206 0.41482 -0.56719 0.40625 C -0.56216 0.37246 -0.57015 0.41829 -0.56112 0.3875 C -0.55921 0.38148 -0.55938 0.37477 -0.55782 0.36875 C -0.55921 0.32199 -0.55122 0.30324 -0.58438 0.29584 C -0.60973 0.29861 -0.63473 0.29098 -0.64376 0.32709 C -0.64324 0.33125 -0.64358 0.33588 -0.64219 0.33959 C -0.63994 0.34561 -0.62622 0.35301 -0.62188 0.35625 C -0.60522 0.36898 -0.58612 0.38125 -0.56719 0.38542 C -0.55851 0.39121 -0.54862 0.39537 -0.53907 0.39792 C -0.53716 0.39769 -0.51876 0.39746 -0.51251 0.39375 C -0.50452 0.38912 -0.50035 0.37871 -0.49219 0.375 C -0.48716 0.36829 -0.48317 0.36088 -0.47813 0.35417 C -0.4724 0.33148 -0.4816 0.36598 -0.47344 0.34167 C -0.46407 0.31366 -0.47692 0.34375 -0.46563 0.31875 C -0.46251 0.30232 -0.45869 0.2875 -0.45626 0.27084 C -0.45574 0.26736 -0.45522 0.26389 -0.45469 0.26042 C -0.45417 0.25695 -0.45313 0.25 -0.45313 0.25 C -0.45365 0.20486 -0.45365 0.15973 -0.45469 0.11459 C -0.45487 0.10973 -0.4599 0.10047 -0.46094 0.09792 C -0.46824 0.08033 -0.47154 0.07894 -0.48456 0.06875 C -0.50678 0.05093 -0.52223 0.04769 -0.54688 0.03959 C -0.57049 0.03172 -0.58994 0.03218 -0.60782 0.00834 C -0.61094 -0.00393 -0.6139 -0.0162 -0.61876 -0.02708 C -0.62553 -0.08078 -0.60747 -0.12176 -0.57032 -0.14166 C -0.5599 -0.15555 -0.5724 -0.1412 -0.55782 -0.15 C -0.55435 -0.15208 -0.55157 -0.15555 -0.54862 -0.15833 C -0.54532 -0.16111 -0.54115 -0.16018 -0.53751 -0.1625 C -0.52622 -0.1699 -0.51546 -0.175 -0.50313 -0.17916 C -0.49029 -0.17639 -0.48612 -0.16875 -0.47813 -0.15625 C -0.46702 -0.13912 -0.45626 -0.12152 -0.44532 -0.10416 C -0.42883 -0.07777 -0.40869 -0.0574 -0.39063 -0.03333 C -0.38143 -0.02106 -0.37883 -0.01666 -0.36719 -0.00625 C -0.35088 0.00834 -0.33126 0.02084 -0.31719 0.03959 C -0.31112 0.04769 -0.304 0.05625 -0.29844 0.06459 C -0.29081 0.0757 -0.28664 0.08704 -0.27969 0.09792 C -0.27379 0.10718 -0.27344 0.11574 -0.26407 0.11875 C -0.25834 0.12408 -0.254 0.12523 -0.24688 0.12709 C -0.23386 0.12639 -0.22101 0.12709 -0.20782 0.125 C -0.19723 0.12338 -0.15348 0.10394 -0.14844 0.10209 C -0.12588 0.09352 -0.10383 0.08449 -0.08126 0.075 C -0.06702 0.06898 -0.05435 0.05787 -0.04063 0.05 C -0.02779 0.0426 -0.0224 0.03056 -0.01094 0.02292 C -0.00695 0.01598 -6.94444E-006 0.00949 -6.94444E-006 -2.22222E-006 E">
                                      <p:cBhvr>
                                        <p:cTn id="37" dur="2000" fill="hold"/>
                                        <p:tgtEl>
                                          <p:spTgt spid="4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ucretia Mott</a:t>
            </a:r>
            <a:endParaRPr b="0" lang="en-US" sz="4400" spc="-1" strike="noStrike">
              <a:solidFill>
                <a:srgbClr val="ffffcc"/>
              </a:solidFill>
              <a:latin typeface="Tahoma"/>
            </a:endParaRPr>
          </a:p>
        </p:txBody>
      </p:sp>
      <p:sp>
        <p:nvSpPr>
          <p:cNvPr id="4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tical and social reform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ly participated in many of the reform movements of the day including abolition, temperance, and pacif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ugurated the woman suffrage move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7" name="" descr="">
            <a:hlinkClick r:id="rId1"/>
          </p:cNvPr>
          <p:cNvPicPr/>
          <p:nvPr/>
        </p:nvPicPr>
        <p:blipFill>
          <a:blip r:embed="rId2"/>
          <a:stretch/>
        </p:blipFill>
        <p:spPr>
          <a:xfrm>
            <a:off x="7089840" y="4191120"/>
            <a:ext cx="1901880" cy="2361960"/>
          </a:xfrm>
          <a:prstGeom prst="rect">
            <a:avLst/>
          </a:prstGeom>
          <a:ln w="0">
            <a:noFill/>
          </a:ln>
        </p:spPr>
      </p:pic>
    </p:spTree>
  </p:cSld>
  <p:transition spd="slow" advTm="13000">
    <p:pull dir="l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path" presetID="0">
                                  <p:stCondLst>
                                    <p:cond delay="0"/>
                                  </p:stCondLst>
                                  <p:childTnLst>
                                    <p:animMotion origin="layout" path="M -0.80469 -0.39583 C -0.80243 -0.40486 -0.79791 -0.40718 -0.79218 -0.4125 C -0.77274 -0.43102 -0.75017 -0.44167 -0.72656 -0.44792 C -0.71562 -0.45093 -0.70486 -0.45486 -0.69392 -0.45625 C -0.68281 -0.45764 -0.66093 -0.46042 -0.66093 -0.46042 C -0.64097 -0.46759 -0.62222 -0.46968 -0.60173 -0.47292 C -0.5908 -0.47222 -0.57986 -0.47245 -0.56875 -0.47083 C -0.55659 -0.46898 -0.54861 -0.45324 -0.54218 -0.44167 C -0.54166 -0.43819 -0.54166 -0.43449 -0.54062 -0.43148 C -0.53906 -0.42616 -0.53541 -0.42222 -0.53437 -0.41667 C -0.53264 -0.40718 -0.53333 -0.39722 -0.53281 -0.3875 C -0.5335 -0.37731 -0.53472 -0.33403 -0.53906 -0.31667 C -0.56771 -0.20185 -0.64409 -0.1162 -0.73437 -0.10417 C -0.74166 -0.10556 -0.75243 -0.1 -0.75625 -0.10833 C -0.76111 -0.11921 -0.75486 -0.13356 -0.7533 -0.14583 C -0.75034 -0.16528 -0.73871 -0.18032 -0.73281 -0.19792 C -0.71944 -0.23819 -0.73593 -0.21227 -0.70468 -0.26458 C -0.65017 -0.35532 -0.57517 -0.42662 -0.48593 -0.4375 C -0.46076 -0.4338 -0.43663 -0.43495 -0.41718 -0.41042 C -0.38767 -0.37292 -0.37291 -0.31829 -0.36267 -0.26667 C -0.35364 -0.22176 -0.34635 -0.16829 -0.3125 -0.14583 C -0.30208 -0.14722 -0.29166 -0.14676 -0.28125 -0.15 C -0.27604 -0.15162 -0.27222 -0.15718 -0.26718 -0.16042 C -0.24687 -0.17384 -0.23507 -0.1875 -0.21718 -0.20856 C -0.18472 -0.2463 -0.16059 -0.29815 -0.1375 -0.34583 C -0.11232 -0.39769 -0.08177 -0.44769 -0.075 -0.51042 C -0.07691 -0.53542 -0.07482 -0.53588 -0.08906 -0.55 C -0.10937 -0.54329 -0.13489 -0.53681 -0.15312 -0.52083 C -0.18368 -0.49398 -0.21597 -0.45949 -0.24218 -0.425 C -0.28646 -0.36713 -0.32656 -0.30718 -0.36423 -0.24167 C -0.38142 -0.21157 -0.38767 -0.18102 -0.39861 -0.14792 C -0.40173 -0.10301 -0.39392 -0.06088 -0.3908 -0.01667 C -0.39166 0.00208 -0.39184 0.02083 -0.39392 0.03958 C -0.40017 0.09931 -0.44739 0.14468 -0.47968 0.17917 C -0.48455 0.18426 -0.49166 0.18542 -0.49687 0.18958 C -0.5026 0.19375 -0.50694 0.20046 -0.5125 0.20417 C -0.52257 0.21088 -0.5342 0.21343 -0.54375 0.22083 C -0.54739 0.22361 -0.55104 0.22708 -0.55468 0.22917 C -0.55885 0.23102 -0.56718 0.23333 -0.56718 0.23333 C -0.56562 0.21921 -0.56354 0.20208 -0.55781 0.18958 C -0.55625 0.18611 -0.55347 0.18426 -0.55156 0.18125 C -0.53038 0.14676 -0.50312 0.1206 -0.47187 0.10417 C -0.46475 0.10046 -0.45712 0.09931 -0.45 0.09583 C -0.40955 0.07546 -0.44357 0.0831 -0.39236 0.06875 C -0.35885 0.05949 -0.37222 0.06412 -0.35173 0.05625 C -0.30937 0.06227 -0.31284 0.05602 -0.2875 0.08125 C -0.28229 0.09537 -0.27326 0.10694 -0.26562 0.11875 C -0.26441 0.1206 -0.26406 0.12361 -0.2625 0.125 C -0.26041 0.12685 -0.25729 0.12731 -0.25468 0.12917 C -0.24948 0.13287 -0.24427 0.1375 -0.23906 0.14167 C -0.23159 0.14745 -0.22083 0.14745 -0.2125 0.15 C -0.20521 0.14931 -0.18212 0.14977 -0.17031 0.14583 C -0.14843 0.13866 -0.12986 0.12454 -0.10781 0.11875 C -0.08698 0.10625 -0.06371 0.09444 -0.04375 0.07917 C -0.02187 0.06227 -0.04896 0.07778 -0.02812 0.06667 C -0.02656 0.06389 -0.02534 0.06088 -0.02343 0.05833 C -0.02205 0.05648 -0.01996 0.05602 -0.01875 0.05417 C -0.01475 0.04769 -0.01163 0.03843 -0.00781 0.03125 C -0.00573 0.02731 -0.00069 0.01991 -2.22222E-006 0.01458 C 0.0007 0.00972 -2.22222E-006 0.00486 -2.22222E-006 3.33333E-006 E">
                                      <p:cBhvr>
                                        <p:cTn id="43" dur="2000" fill="hold"/>
                                        <p:tgtEl>
                                          <p:spTgt spid="4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san King Taylor</a:t>
            </a:r>
            <a:endParaRPr b="0" lang="en-US" sz="4400" spc="-1" strike="noStrike">
              <a:solidFill>
                <a:srgbClr val="ffffcc"/>
              </a:solidFill>
              <a:latin typeface="Tahoma"/>
            </a:endParaRPr>
          </a:p>
        </p:txBody>
      </p:sp>
      <p:sp>
        <p:nvSpPr>
          <p:cNvPr id="4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olunteered as nurse and launderer in Civil W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er of American Red Cro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the Boston Branch of the Women’s Relief Corps after the wa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memoirs published in 1902, and became the only written record of Black volunteer nurses in the Civil W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60" name="" descr=""/>
          <p:cNvPicPr/>
          <p:nvPr/>
        </p:nvPicPr>
        <p:blipFill>
          <a:blip r:embed="rId1"/>
          <a:stretch/>
        </p:blipFill>
        <p:spPr>
          <a:xfrm>
            <a:off x="7537320" y="2209680"/>
            <a:ext cx="1530360" cy="2362320"/>
          </a:xfrm>
          <a:prstGeom prst="rect">
            <a:avLst/>
          </a:prstGeom>
          <a:ln w="0">
            <a:noFill/>
          </a:ln>
        </p:spPr>
      </p:pic>
    </p:spTree>
  </p:cSld>
  <p:transition spd="slow" advTm="13000">
    <p:wipe dir="l"/>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path" presetID="0">
                                  <p:stCondLst>
                                    <p:cond delay="0"/>
                                  </p:stCondLst>
                                  <p:childTnLst>
                                    <p:animMotion origin="layout" path="M -0.81233 -0.23124 C -0.80816 -0.24814 -0.7908 -0.25439 -0.77952 -0.26041 C -0.75938 -0.27106 -0.73959 -0.27638 -0.71858 -0.28333 C -0.68316 -0.29513 -0.71337 -0.29004 -0.67952 -0.29374 C -0.65504 -0.29166 -0.63056 -0.29097 -0.60608 -0.28749 C -0.5625 -0.28147 -0.54236 -0.22638 -0.5342 -0.17708 C -0.54063 -0.11759 -0.53594 -0.14745 -0.54827 -0.08749 C -0.55452 -0.05671 -0.57466 -0.02569 -0.58889 7.77778E-006 C -0.62605 0.06621 -0.67917 0.11042 -0.73264 0.15001 C -0.75608 0.16737 -0.77917 0.19075 -0.80608 0.19584 C -0.81424 0.19954 -0.82414 0.20603 -0.83264 0.19584 C -0.83438 0.19376 -0.82882 0.17084 -0.82795 0.16876 C -0.81841 0.147 -0.80417 0.12964 -0.79045 0.11251 C -0.7717 0.08913 -0.7717 0.09144 -0.74514 0.06667 C -0.73542 0.05765 -0.72709 0.04584 -0.71702 0.03751 C -0.69341 0.01853 -0.66493 -0.00092 -0.63733 -0.00624 C -0.6316 -0.00485 -0.62535 -0.00601 -0.62032 -0.00208 C -0.61806 -0.00022 -0.61875 0.00487 -0.61875 0.00834 C -0.61771 0.02153 -0.61806 0.03473 -0.61702 0.04792 C -0.61424 0.09167 -0.60782 0.12246 -0.59688 0.16459 C -0.59132 0.18542 -0.57986 0.20255 -0.57344 0.22292 C -0.56146 0.26089 -0.54879 0.28172 -0.52952 0.31251 C -0.52552 0.31899 -0.52275 0.32709 -0.51858 0.33334 C -0.49497 0.36853 -0.46181 0.39746 -0.42639 0.40417 C -0.41702 0.40278 -0.40747 0.40278 -0.39844 0.40001 C -0.38802 0.39677 -0.35782 0.35927 -0.34983 0.34792 C -0.3066 0.28635 -0.29115 0.20973 -0.27952 0.12917 C -0.27327 0.08403 -0.27605 0.09769 -0.2717 0.05001 C -0.26893 0.01806 -0.26667 -0.01388 -0.26407 -0.04583 C -0.26216 -0.06597 -0.25764 -0.10624 -0.25764 -0.10624 C -0.26042 -0.15277 -0.25539 -0.21805 -0.28907 -0.24791 C -0.29202 -0.24722 -0.29549 -0.24791 -0.29827 -0.24583 C -0.30052 -0.24421 -0.30105 -0.23981 -0.30295 -0.23749 C -0.30938 -0.22939 -0.31736 -0.22337 -0.32327 -0.21458 C -0.35122 -0.17222 -0.38282 -0.12847 -0.40157 -0.07708 C -0.40695 -0.06203 -0.4132 -0.04722 -0.41702 -0.03124 C -0.42014 -0.01805 -0.42639 0.00834 -0.42639 0.00834 C -0.42865 0.03959 -0.42986 0.04005 -0.42327 0.08126 C -0.42292 0.08403 -0.4198 0.08519 -0.41858 0.08751 C -0.41719 0.09005 -0.41754 0.09445 -0.41545 0.09584 C -0.41077 0.09908 -0.4 0.10001 -0.4 0.10001 C -0.38837 0.09792 -0.37674 0.097 -0.36545 0.09376 C -0.32691 0.08241 -0.28559 0.03704 -0.25452 0.00834 C -0.20261 -0.03958 -0.14688 -0.08981 -0.12014 -0.16874 C -0.11302 -0.18981 -0.11007 -0.21689 -0.10764 -0.23958 C -0.1066 -0.26458 -0.10851 -0.2986 -0.09045 -0.31458 C -0.07691 -0.31018 -0.06719 -0.30022 -0.05608 -0.28958 C -0.02986 -0.26411 -0.01858 -0.24698 -2.77778E-007 -0.21249 C 0.00468 -0.20416 0.0092 -0.19907 0.01267 -0.18958 C 0.01632 -0.17985 0.01788 -0.16666 0.02048 -0.15624 C 0.01996 -0.14027 0.02031 -0.1243 0.01892 -0.10833 C 0.01875 -0.10532 0.01649 -0.103 0.0158 -0.09999 C 0.01336 -0.08911 0.01093 -0.07939 0.00798 -0.06874 C 0.00295 -0.05092 -2.77778E-007 -0.01828 -2.77778E-007 7.77778E-006 E">
                                      <p:cBhvr>
                                        <p:cTn id="49" dur="2000" fill="hold"/>
                                        <p:tgtEl>
                                          <p:spTgt spid="4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an Soldiers</a:t>
            </a:r>
            <a:endParaRPr b="0" lang="en-US" sz="4400" spc="-1" strike="noStrike">
              <a:solidFill>
                <a:srgbClr val="ffffcc"/>
              </a:solidFill>
              <a:latin typeface="Tahoma"/>
            </a:endParaRPr>
          </a:p>
        </p:txBody>
      </p:sp>
      <p:sp>
        <p:nvSpPr>
          <p:cNvPr id="4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women disguised themselves as men so they could be soldi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nces Clayton       Sarah Edmonds Seelye</a:t>
            </a:r>
            <a:endParaRPr b="0" lang="en-US" sz="3200" spc="-1" strike="noStrike">
              <a:solidFill>
                <a:srgbClr val="ffffff"/>
              </a:solidFill>
              <a:latin typeface="Tahoma"/>
            </a:endParaRPr>
          </a:p>
        </p:txBody>
      </p:sp>
      <p:pic>
        <p:nvPicPr>
          <p:cNvPr id="463" name="" descr="Frances Clayton"/>
          <p:cNvPicPr/>
          <p:nvPr/>
        </p:nvPicPr>
        <p:blipFill>
          <a:blip r:embed="rId1"/>
          <a:stretch/>
        </p:blipFill>
        <p:spPr>
          <a:xfrm>
            <a:off x="3692520" y="-22367880"/>
            <a:ext cx="1666800" cy="2733840"/>
          </a:xfrm>
          <a:prstGeom prst="rect">
            <a:avLst/>
          </a:prstGeom>
          <a:ln w="0">
            <a:noFill/>
          </a:ln>
        </p:spPr>
      </p:pic>
      <p:pic>
        <p:nvPicPr>
          <p:cNvPr id="464" name="" descr="Francis Clayton"/>
          <p:cNvPicPr/>
          <p:nvPr/>
        </p:nvPicPr>
        <p:blipFill>
          <a:blip r:embed="rId2"/>
          <a:stretch/>
        </p:blipFill>
        <p:spPr>
          <a:xfrm>
            <a:off x="3875040" y="-22086720"/>
            <a:ext cx="1666800" cy="2438280"/>
          </a:xfrm>
          <a:prstGeom prst="rect">
            <a:avLst/>
          </a:prstGeom>
          <a:ln w="0">
            <a:noFill/>
          </a:ln>
        </p:spPr>
      </p:pic>
      <p:pic>
        <p:nvPicPr>
          <p:cNvPr id="465" name="" descr="Francis Clayton"/>
          <p:cNvPicPr/>
          <p:nvPr/>
        </p:nvPicPr>
        <p:blipFill>
          <a:blip r:embed="rId3"/>
          <a:stretch/>
        </p:blipFill>
        <p:spPr>
          <a:xfrm>
            <a:off x="380880" y="3352680"/>
            <a:ext cx="1667160" cy="2743200"/>
          </a:xfrm>
          <a:prstGeom prst="rect">
            <a:avLst/>
          </a:prstGeom>
          <a:ln w="0">
            <a:noFill/>
          </a:ln>
        </p:spPr>
      </p:pic>
      <p:pic>
        <p:nvPicPr>
          <p:cNvPr id="466" name="" descr="Frances Clayton"/>
          <p:cNvPicPr/>
          <p:nvPr/>
        </p:nvPicPr>
        <p:blipFill>
          <a:blip r:embed="rId4"/>
          <a:stretch/>
        </p:blipFill>
        <p:spPr>
          <a:xfrm>
            <a:off x="2362320" y="3352680"/>
            <a:ext cx="1666800" cy="2733840"/>
          </a:xfrm>
          <a:prstGeom prst="rect">
            <a:avLst/>
          </a:prstGeom>
          <a:ln w="0">
            <a:noFill/>
          </a:ln>
        </p:spPr>
      </p:pic>
      <p:pic>
        <p:nvPicPr>
          <p:cNvPr id="467" name="" descr="Sara Edmonds Seelye"/>
          <p:cNvPicPr/>
          <p:nvPr/>
        </p:nvPicPr>
        <p:blipFill>
          <a:blip r:embed="rId5"/>
          <a:stretch/>
        </p:blipFill>
        <p:spPr>
          <a:xfrm>
            <a:off x="4876920" y="3352680"/>
            <a:ext cx="1666800" cy="2743200"/>
          </a:xfrm>
          <a:prstGeom prst="rect">
            <a:avLst/>
          </a:prstGeom>
          <a:ln w="0">
            <a:noFill/>
          </a:ln>
        </p:spPr>
      </p:pic>
      <p:pic>
        <p:nvPicPr>
          <p:cNvPr id="468" name="" descr="Sara Edmonds Seelye disguised as Franklin Thompson"/>
          <p:cNvPicPr/>
          <p:nvPr/>
        </p:nvPicPr>
        <p:blipFill>
          <a:blip r:embed="rId6"/>
          <a:stretch/>
        </p:blipFill>
        <p:spPr>
          <a:xfrm>
            <a:off x="6858000" y="3352680"/>
            <a:ext cx="1666800" cy="2743200"/>
          </a:xfrm>
          <a:prstGeom prst="rect">
            <a:avLst/>
          </a:prstGeom>
          <a:ln w="0">
            <a:noFill/>
          </a:ln>
        </p:spPr>
      </p:pic>
    </p:spTree>
  </p:cSld>
  <p:transition spd="slow" advTm="10000">
    <p:wipe dir="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465"/>
                                        </p:tgtEl>
                                        <p:attrNameLst>
                                          <p:attrName>style.visibility</p:attrName>
                                        </p:attrNameLst>
                                      </p:cBhvr>
                                      <p:to>
                                        <p:strVal val="visible"/>
                                      </p:to>
                                    </p:set>
                                    <p:animEffect filter="checkerboard(across)" transition="in">
                                      <p:cBhvr additive="repl">
                                        <p:cTn id="56" dur="500"/>
                                        <p:tgtEl>
                                          <p:spTgt spid="46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66"/>
                                        </p:tgtEl>
                                        <p:attrNameLst>
                                          <p:attrName>style.visibility</p:attrName>
                                        </p:attrNameLst>
                                      </p:cBhvr>
                                      <p:to>
                                        <p:strVal val="visible"/>
                                      </p:to>
                                    </p:set>
                                    <p:anim calcmode="lin" valueType="num">
                                      <p:cBhvr additive="base">
                                        <p:cTn id="61" dur="500" fill="hold"/>
                                        <p:tgtEl>
                                          <p:spTgt spid="466"/>
                                        </p:tgtEl>
                                        <p:attrNameLst>
                                          <p:attrName>ppt_x</p:attrName>
                                        </p:attrNameLst>
                                      </p:cBhvr>
                                      <p:tavLst>
                                        <p:tav tm="0">
                                          <p:val>
                                            <p:strVal val="#ppt_x"/>
                                          </p:val>
                                        </p:tav>
                                        <p:tav tm="100000">
                                          <p:val>
                                            <p:strVal val="#ppt_x"/>
                                          </p:val>
                                        </p:tav>
                                      </p:tavLst>
                                    </p:anim>
                                    <p:anim calcmode="lin" valueType="num">
                                      <p:cBhvr additive="base">
                                        <p:cTn id="62" dur="5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67"/>
                                        </p:tgtEl>
                                        <p:attrNameLst>
                                          <p:attrName>style.visibility</p:attrName>
                                        </p:attrNameLst>
                                      </p:cBhvr>
                                      <p:to>
                                        <p:strVal val="visible"/>
                                      </p:to>
                                    </p:set>
                                    <p:animEffect filter="checkerboard(across)" transition="in">
                                      <p:cBhvr additive="repl">
                                        <p:cTn id="67" dur="500"/>
                                        <p:tgtEl>
                                          <p:spTgt spid="4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68"/>
                                        </p:tgtEl>
                                        <p:attrNameLst>
                                          <p:attrName>style.visibility</p:attrName>
                                        </p:attrNameLst>
                                      </p:cBhvr>
                                      <p:to>
                                        <p:strVal val="visible"/>
                                      </p:to>
                                    </p:set>
                                    <p:anim calcmode="lin" valueType="num">
                                      <p:cBhvr additive="base">
                                        <p:cTn id="72" dur="500" fill="hold"/>
                                        <p:tgtEl>
                                          <p:spTgt spid="468"/>
                                        </p:tgtEl>
                                        <p:attrNameLst>
                                          <p:attrName>ppt_x</p:attrName>
                                        </p:attrNameLst>
                                      </p:cBhvr>
                                      <p:tavLst>
                                        <p:tav tm="0">
                                          <p:val>
                                            <p:strVal val="#ppt_x"/>
                                          </p:val>
                                        </p:tav>
                                        <p:tav tm="100000">
                                          <p:val>
                                            <p:strVal val="#ppt_x"/>
                                          </p:val>
                                        </p:tav>
                                      </p:tavLst>
                                    </p:anim>
                                    <p:anim calcmode="lin" valueType="num">
                                      <p:cBhvr additive="base">
                                        <p:cTn id="73"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2:14:01Z</dcterms:created>
  <dc:creator>shaylambillet</dc:creator>
  <dc:description/>
  <dc:language>en-US</dc:language>
  <cp:lastModifiedBy>shaylambillet</cp:lastModifiedBy>
  <dcterms:modified xsi:type="dcterms:W3CDTF">2009-03-20T12:05:51Z</dcterms:modified>
  <cp:revision>10</cp:revision>
  <dc:subject/>
  <dc:title>Women’s Contributions to the CIVIL WAR</dc:title>
</cp:coreProperties>
</file>